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2.jpeg" ContentType="image/jpeg"/>
  <Override PartName="/ppt/media/image21.png" ContentType="image/png"/>
  <Override PartName="/ppt/media/LASER.WAV" ContentType="audio/x-wav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0.jpeg" ContentType="image/jpeg"/>
  <Override PartName="/ppt/media/image29.png" ContentType="image/png"/>
  <Override PartName="/ppt/media/image32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5231-7957-449F-9B80-C55D1CE48E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0AED-610E-43DF-AFF4-2A7F76057D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606-1B94-4F99-8DBE-E79A065923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FB52-FC5C-4B44-B2CB-F096DE1990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5FA5-6A1D-4ECB-96EC-D60CE29AB3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DA37-B3C7-4709-B373-584115F632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FE9-EC1A-43B3-BC69-197B8F6C76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4F7C-DEF8-4B03-8B59-69257725D99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32AA-7745-4612-8E58-9D535D20D5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52E2-4460-48E7-A2C1-6CB839FA9D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334C-3E55-4B63-9E52-E6E162119E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EE9-0055-4F22-BB56-7C0C1A7154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F962-2C72-4E9D-9336-31642C17A6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73C5-1893-4969-A723-5988F86E708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39F9-CE89-458F-88D0-945BCDFB7B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1144-1EFD-419A-874B-5788AE6D79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BA13-A9E4-4611-AA6E-01E55C3988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813B-7788-446F-9855-04D022B7DB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589A-D902-493B-A142-5D10E896FE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CEE3-D838-431F-AA84-618FFC16AB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97FF-D6CD-488E-83F5-4B1D9BC9B3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F707-4446-4D0F-9532-8E1FAF4E27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F92-8587-41D1-99AD-723792FE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00B-613D-4343-B808-6852AAE3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BFB-3EC1-49ED-A87D-706EF8ED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94F-09AF-4A52-A0FC-C3133FF3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8CD-8ABB-480B-A36E-62B644C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80B-8B42-4AF9-8611-D36B4CA3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CA9-A86A-4D25-8708-95E0ADD9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DB7A-B3B4-4340-9F85-2590FB09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13B-28DF-4583-9787-AFCE2D51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7D7-857B-43BD-B4A3-C167EBE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9C6-8781-4AD5-B213-00F53EEE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188-2C43-4678-9677-F81FEEC6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2B2D-4E01-4D15-AF8C-80F69A27BE5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2.xml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22.jpeg"/><Relationship Id="rId8" Type="http://schemas.openxmlformats.org/officeDocument/2006/relationships/image" Target="../media/image15.jpeg"/><Relationship Id="rId9" Type="http://schemas.openxmlformats.org/officeDocument/2006/relationships/image" Target="../media/image14.jpeg"/><Relationship Id="rId10" Type="http://schemas.openxmlformats.org/officeDocument/2006/relationships/image" Target="../media/image22.jpe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22.jpeg"/><Relationship Id="rId17" Type="http://schemas.openxmlformats.org/officeDocument/2006/relationships/image" Target="../media/image15.jpeg"/><Relationship Id="rId18" Type="http://schemas.openxmlformats.org/officeDocument/2006/relationships/image" Target="../media/image14.jpeg"/><Relationship Id="rId19" Type="http://schemas.openxmlformats.org/officeDocument/2006/relationships/image" Target="../media/image22.jpe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22.jpeg"/><Relationship Id="rId26" Type="http://schemas.openxmlformats.org/officeDocument/2006/relationships/image" Target="../media/image15.jpeg"/><Relationship Id="rId27" Type="http://schemas.openxmlformats.org/officeDocument/2006/relationships/image" Target="../media/image14.jpeg"/><Relationship Id="rId28" Type="http://schemas.openxmlformats.org/officeDocument/2006/relationships/image" Target="../media/image22.jpeg"/><Relationship Id="rId2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7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20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2240" y="5207040"/>
            <a:ext cx="158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73320" y="1066680"/>
            <a:ext cx="7619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5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إدارة الوقت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5638680" y="0"/>
            <a:ext cx="3353040" cy="1752480"/>
          </a:xfrm>
          <a:custGeom>
            <a:avLst/>
            <a:gdLst>
              <a:gd name="textAreaLeft" fmla="*/ 765360 w 3353040"/>
              <a:gd name="textAreaRight" fmla="*/ 2587680 w 335304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ر دائماً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124080" y="4343400"/>
            <a:ext cx="579132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إن تغيير العادات يأخ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7200" y="1828800"/>
            <a:ext cx="8458200" cy="1556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إن إدارة الوقت قضية ذاتية يجب أن تُناس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5791320" y="2819520"/>
            <a:ext cx="2590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ظروف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1295280" y="2819520"/>
            <a:ext cx="2590920" cy="121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imes New Roman"/>
              </a:rPr>
              <a:t>طبيع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914400" y="5257800"/>
            <a:ext cx="320040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مجهوداً كبير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638680" y="5334120"/>
            <a:ext cx="3048120" cy="1218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وقتاً طويل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600200" y="1905120"/>
            <a:ext cx="6248520" cy="4419000"/>
            <a:chOff x="1600200" y="1905120"/>
            <a:chExt cx="6248520" cy="4419000"/>
          </a:xfrm>
        </p:grpSpPr>
        <p:sp>
          <p:nvSpPr>
            <p:cNvPr id="114" name="AutoShape 3"/>
            <p:cNvSpPr/>
            <p:nvPr/>
          </p:nvSpPr>
          <p:spPr>
            <a:xfrm>
              <a:off x="1600200" y="1905120"/>
              <a:ext cx="6172200" cy="434304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040"/>
                <a:gd name="textAreaBottom" fmla="*/ 3292560 h 43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000099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4"/>
            <p:cNvSpPr/>
            <p:nvPr/>
          </p:nvSpPr>
          <p:spPr>
            <a:xfrm>
              <a:off x="1676520" y="1981080"/>
              <a:ext cx="6172200" cy="434304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040"/>
                <a:gd name="textAreaBottom" fmla="*/ 3292560 h 43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000099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أول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14400" y="5638680"/>
          <a:ext cx="7238880" cy="916200"/>
        </p:xfrm>
        <a:graphic>
          <a:graphicData uri="http://schemas.openxmlformats.org/drawingml/2006/table">
            <a:tbl>
              <a:tblPr/>
              <a:tblGrid>
                <a:gridCol w="723960"/>
                <a:gridCol w="592200"/>
                <a:gridCol w="657000"/>
                <a:gridCol w="658800"/>
                <a:gridCol w="657360"/>
                <a:gridCol w="660240"/>
                <a:gridCol w="657360"/>
                <a:gridCol w="658800"/>
                <a:gridCol w="657360"/>
                <a:gridCol w="658800"/>
                <a:gridCol w="65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59"/>
          <p:cNvSpPr/>
          <p:nvPr/>
        </p:nvSpPr>
        <p:spPr>
          <a:xfrm>
            <a:off x="6705720" y="2209680"/>
            <a:ext cx="2209680" cy="2286000"/>
          </a:xfrm>
          <a:prstGeom prst="downArrow">
            <a:avLst>
              <a:gd name="adj1" fmla="val 49852"/>
              <a:gd name="adj2" fmla="val 25001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لا أتحك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طلق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في وق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0"/>
          <p:cNvSpPr/>
          <p:nvPr/>
        </p:nvSpPr>
        <p:spPr>
          <a:xfrm>
            <a:off x="0" y="2209680"/>
            <a:ext cx="2590920" cy="2286000"/>
          </a:xfrm>
          <a:prstGeom prst="downArrow">
            <a:avLst>
              <a:gd name="adj1" fmla="val 46167"/>
              <a:gd name="adj2" fmla="val 26190"/>
            </a:avLst>
          </a:prstGeom>
          <a:gradFill rotWithShape="0">
            <a:gsLst>
              <a:gs pos="0">
                <a:srgbClr val="0099ff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تحك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ك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وق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1"/>
          <p:cNvSpPr/>
          <p:nvPr/>
        </p:nvSpPr>
        <p:spPr>
          <a:xfrm>
            <a:off x="1447920" y="304920"/>
            <a:ext cx="5715000" cy="1371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إلى أي مدى تتحكم في وقتك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3"/>
          <p:cNvSpPr/>
          <p:nvPr/>
        </p:nvSpPr>
        <p:spPr>
          <a:xfrm>
            <a:off x="2133720" y="1981080"/>
            <a:ext cx="4952880" cy="762120"/>
          </a:xfrm>
          <a:prstGeom prst="plus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ضع نفسك على هذا ال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3"/>
          <p:cNvSpPr/>
          <p:nvPr/>
        </p:nvSpPr>
        <p:spPr>
          <a:xfrm>
            <a:off x="2362320" y="304920"/>
            <a:ext cx="4190760" cy="1371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  <a:effectLst>
            <a:outerShdw dist="107932" dir="135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ستقص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4"/>
          <p:cNvSpPr/>
          <p:nvPr/>
        </p:nvSpPr>
        <p:spPr>
          <a:xfrm>
            <a:off x="2133720" y="1981080"/>
            <a:ext cx="4952880" cy="762120"/>
          </a:xfrm>
          <a:prstGeom prst="plus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كيف تدير وقتك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5"/>
          <p:cNvSpPr/>
          <p:nvPr/>
        </p:nvSpPr>
        <p:spPr>
          <a:xfrm>
            <a:off x="838080" y="3429000"/>
            <a:ext cx="762012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جب عن أسئلة الاستقصا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كن صادقاً مع نفسك فلن يطلع على نتيجتك أح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6"/>
          <p:cNvGrpSpPr/>
          <p:nvPr/>
        </p:nvGrpSpPr>
        <p:grpSpPr>
          <a:xfrm>
            <a:off x="2133720" y="152280"/>
            <a:ext cx="4800600" cy="1067040"/>
            <a:chOff x="2133720" y="152280"/>
            <a:chExt cx="4800600" cy="1067040"/>
          </a:xfrm>
        </p:grpSpPr>
        <p:sp>
          <p:nvSpPr>
            <p:cNvPr id="126" name="AutoShape 45"/>
            <p:cNvSpPr/>
            <p:nvPr/>
          </p:nvSpPr>
          <p:spPr>
            <a:xfrm>
              <a:off x="2133720" y="152280"/>
              <a:ext cx="4544640" cy="10670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2133720" y="304920"/>
              <a:ext cx="480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مفتاح الاستقصاء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1447920" y="1447920"/>
          <a:ext cx="6095880" cy="1981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بد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نادر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حيان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دائم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عاد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مدي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29" name="Oval 32"/>
          <p:cNvSpPr/>
          <p:nvPr/>
        </p:nvSpPr>
        <p:spPr>
          <a:xfrm>
            <a:off x="7391520" y="3505320"/>
            <a:ext cx="152388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9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7391520" y="4343400"/>
            <a:ext cx="15238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7391520" y="5181480"/>
            <a:ext cx="1523880" cy="685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7391520" y="6019920"/>
            <a:ext cx="1523880" cy="685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أ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5181120" y="388620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7"/>
          <p:cNvSpPr/>
          <p:nvPr/>
        </p:nvSpPr>
        <p:spPr>
          <a:xfrm flipH="1">
            <a:off x="5181120" y="464832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8"/>
          <p:cNvSpPr/>
          <p:nvPr/>
        </p:nvSpPr>
        <p:spPr>
          <a:xfrm flipH="1">
            <a:off x="5181120" y="548640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9"/>
          <p:cNvSpPr/>
          <p:nvPr/>
        </p:nvSpPr>
        <p:spPr>
          <a:xfrm flipH="1">
            <a:off x="5181120" y="632448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685800" y="358128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cc99"/>
                </a:solidFill>
                <a:latin typeface="Times New Roman"/>
              </a:rPr>
              <a:t>تتحكم في وقتك بفعا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-152280" y="4343400"/>
            <a:ext cx="495288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ي طريق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لتحكم في وقت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1066680" y="5181480"/>
            <a:ext cx="350532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تعاني من مشاك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-76320" y="6019920"/>
            <a:ext cx="472464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لوقت هو الذي يتحكم ف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5"/>
          <p:cNvSpPr/>
          <p:nvPr/>
        </p:nvSpPr>
        <p:spPr>
          <a:xfrm>
            <a:off x="990720" y="2666880"/>
            <a:ext cx="7848360" cy="35053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7"/>
          <p:cNvGrpSpPr/>
          <p:nvPr/>
        </p:nvGrpSpPr>
        <p:grpSpPr>
          <a:xfrm>
            <a:off x="1600200" y="1295280"/>
            <a:ext cx="5105520" cy="990720"/>
            <a:chOff x="1600200" y="1295280"/>
            <a:chExt cx="5105520" cy="990720"/>
          </a:xfrm>
        </p:grpSpPr>
        <p:sp>
          <p:nvSpPr>
            <p:cNvPr id="143" name="Rectangle 16"/>
            <p:cNvSpPr/>
            <p:nvPr/>
          </p:nvSpPr>
          <p:spPr>
            <a:xfrm>
              <a:off x="1676520" y="1371600"/>
              <a:ext cx="502920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1600200" y="1295280"/>
              <a:ext cx="502920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371600" y="1371600"/>
            <a:ext cx="533412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أولاً : اجمع المعلوما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38080" y="358128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* استخدم جداول النشاطات اليومية</a:t>
            </a:r>
            <a:r>
              <a:rPr b="0" lang="ar-SA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143000" y="44956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0021"/>
                </a:solidFill>
                <a:latin typeface="Times New Roman"/>
              </a:rPr>
              <a:t>* املأ الجدول يومياً لمدة أسبو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9"/>
          <p:cNvSpPr/>
          <p:nvPr/>
        </p:nvSpPr>
        <p:spPr>
          <a:xfrm>
            <a:off x="609480" y="2438280"/>
            <a:ext cx="7391520" cy="426744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1981080" y="1371600"/>
            <a:ext cx="4800600" cy="838080"/>
            <a:chOff x="1981080" y="1371600"/>
            <a:chExt cx="4800600" cy="838080"/>
          </a:xfrm>
        </p:grpSpPr>
        <p:sp>
          <p:nvSpPr>
            <p:cNvPr id="151" name="Rectangle 10"/>
            <p:cNvSpPr/>
            <p:nvPr/>
          </p:nvSpPr>
          <p:spPr>
            <a:xfrm>
              <a:off x="2057400" y="1447920"/>
              <a:ext cx="472428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1981080" y="1371600"/>
              <a:ext cx="472464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2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14400" y="1295280"/>
            <a:ext cx="655308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ثانياً : اختبر نشاطات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62120" y="304812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هل هي ضرورية 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3962520"/>
            <a:ext cx="7162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* هل لابد أن تؤديها بنفس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4800600"/>
            <a:ext cx="670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Times New Roman"/>
              </a:rPr>
              <a:t>*  ما هي أكثر الطرق كفاءة لأدائها ؟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371600" y="5486400"/>
            <a:ext cx="6095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* استخدم نموذج تحليل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5638680" y="0"/>
            <a:ext cx="3353040" cy="1752480"/>
          </a:xfrm>
          <a:custGeom>
            <a:avLst/>
            <a:gdLst>
              <a:gd name="textAreaLeft" fmla="*/ 765360 w 3353040"/>
              <a:gd name="textAreaRight" fmla="*/ 2587680 w 335304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ر دائماً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04920" y="3429000"/>
            <a:ext cx="868680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ابحث عن أحد غيرك للقيام ببعض مهام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990720" y="5334120"/>
            <a:ext cx="769608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قم بالمهمة بأكبر كفاءة ممك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85800" y="1828800"/>
            <a:ext cx="8077320" cy="1295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توقف عن أي مهمة غير ضرو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0"/>
          <p:cNvSpPr/>
          <p:nvPr/>
        </p:nvSpPr>
        <p:spPr>
          <a:xfrm>
            <a:off x="1295280" y="2666880"/>
            <a:ext cx="7315200" cy="3962520"/>
          </a:xfrm>
          <a:prstGeom prst="verticalScroll">
            <a:avLst>
              <a:gd name="adj" fmla="val 13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609480" y="1371600"/>
            <a:ext cx="7086600" cy="990720"/>
            <a:chOff x="609480" y="1371600"/>
            <a:chExt cx="7086600" cy="990720"/>
          </a:xfrm>
        </p:grpSpPr>
        <p:sp>
          <p:nvSpPr>
            <p:cNvPr id="165" name="Rectangle 11"/>
            <p:cNvSpPr/>
            <p:nvPr/>
          </p:nvSpPr>
          <p:spPr>
            <a:xfrm>
              <a:off x="685800" y="1447920"/>
              <a:ext cx="701028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609480" y="1371600"/>
              <a:ext cx="701064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838080" y="1447920"/>
            <a:ext cx="65534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ثالثاً : تعرف على منحنى نشاط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3429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رسم منحنى نشاطك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38080" y="51814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*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أعد توزيع أعمالك حسب النتيج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057400" y="41911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 حدد وقت الذروة في نشاط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26"/>
          <p:cNvSpPr/>
          <p:nvPr/>
        </p:nvSpPr>
        <p:spPr>
          <a:xfrm>
            <a:off x="1752480" y="2209680"/>
            <a:ext cx="6934320" cy="365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33"/>
          <p:cNvSpPr/>
          <p:nvPr/>
        </p:nvSpPr>
        <p:spPr>
          <a:xfrm>
            <a:off x="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35"/>
          <p:cNvSpPr/>
          <p:nvPr/>
        </p:nvSpPr>
        <p:spPr>
          <a:xfrm>
            <a:off x="457200" y="3809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36"/>
          <p:cNvSpPr/>
          <p:nvPr/>
        </p:nvSpPr>
        <p:spPr>
          <a:xfrm>
            <a:off x="0" y="55627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صفر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37"/>
          <p:cNvSpPr/>
          <p:nvPr/>
        </p:nvSpPr>
        <p:spPr>
          <a:xfrm>
            <a:off x="1752480" y="4038480"/>
            <a:ext cx="6934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762120" y="60199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صباح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39"/>
          <p:cNvSpPr/>
          <p:nvPr/>
        </p:nvSpPr>
        <p:spPr>
          <a:xfrm>
            <a:off x="3962520" y="609588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ظهر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40"/>
          <p:cNvSpPr/>
          <p:nvPr/>
        </p:nvSpPr>
        <p:spPr>
          <a:xfrm>
            <a:off x="723888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ساء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41"/>
          <p:cNvSpPr/>
          <p:nvPr/>
        </p:nvSpPr>
        <p:spPr>
          <a:xfrm flipV="1">
            <a:off x="510552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42"/>
          <p:cNvSpPr/>
          <p:nvPr/>
        </p:nvSpPr>
        <p:spPr>
          <a:xfrm flipV="1">
            <a:off x="1752480" y="2361960"/>
            <a:ext cx="1143000" cy="114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44"/>
          <p:cNvSpPr/>
          <p:nvPr/>
        </p:nvSpPr>
        <p:spPr>
          <a:xfrm>
            <a:off x="3809880" y="2362320"/>
            <a:ext cx="2514600" cy="2514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45"/>
          <p:cNvSpPr/>
          <p:nvPr/>
        </p:nvSpPr>
        <p:spPr>
          <a:xfrm>
            <a:off x="6324480" y="4876920"/>
            <a:ext cx="6098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46"/>
          <p:cNvSpPr/>
          <p:nvPr/>
        </p:nvSpPr>
        <p:spPr>
          <a:xfrm flipV="1">
            <a:off x="6934320" y="419076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48"/>
          <p:cNvSpPr/>
          <p:nvPr/>
        </p:nvSpPr>
        <p:spPr>
          <a:xfrm>
            <a:off x="8001000" y="419112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43"/>
          <p:cNvSpPr/>
          <p:nvPr/>
        </p:nvSpPr>
        <p:spPr>
          <a:xfrm>
            <a:off x="2895480" y="236232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47"/>
          <p:cNvSpPr/>
          <p:nvPr/>
        </p:nvSpPr>
        <p:spPr>
          <a:xfrm>
            <a:off x="7620120" y="419112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1055"/>
          <p:cNvGrpSpPr/>
          <p:nvPr/>
        </p:nvGrpSpPr>
        <p:grpSpPr>
          <a:xfrm>
            <a:off x="2010240" y="264240"/>
            <a:ext cx="6371640" cy="1259640"/>
            <a:chOff x="2010240" y="264240"/>
            <a:chExt cx="6371640" cy="1259640"/>
          </a:xfrm>
        </p:grpSpPr>
        <p:sp>
          <p:nvSpPr>
            <p:cNvPr id="189" name="AutoShape 1051"/>
            <p:cNvSpPr/>
            <p:nvPr/>
          </p:nvSpPr>
          <p:spPr>
            <a:xfrm>
              <a:off x="7391520" y="380880"/>
              <a:ext cx="990360" cy="1143000"/>
            </a:xfrm>
            <a:custGeom>
              <a:avLst/>
              <a:gdLst>
                <a:gd name="textAreaLeft" fmla="*/ 132480 w 990360"/>
                <a:gd name="textAreaRight" fmla="*/ 857880 w 990360"/>
                <a:gd name="textAreaTop" fmla="*/ 195480 h 1143000"/>
                <a:gd name="textAreaBottom" fmla="*/ 8506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2644716"/>
                  <a:lnTo>
                    <a:pt x="7200" y="21177"/>
                  </a:lnTo>
                  <a:lnTo>
                    <a:pt x="0" y="17280"/>
                  </a:lnTo>
                  <a:lnTo>
                    <a:pt x="7200" y="12537"/>
                  </a:lnTo>
                  <a:lnTo>
                    <a:pt x="7200" y="14367"/>
                  </a:lnTo>
                  <a:arcTo wR="21600" hR="7395" stAng="2644716" swAng="-2225928"/>
                  <a:lnTo>
                    <a:pt x="20339" y="9885"/>
                  </a:lnTo>
                  <a:arcTo wR="21600" hR="7395" stAng="-418788" swAng="-4981212"/>
                  <a:close/>
                </a:path>
                <a:path fill="darkenLess"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-418788"/>
                  <a:lnTo>
                    <a:pt x="20339" y="9885"/>
                  </a:lnTo>
                  <a:arcTo wR="21600" hR="7395" stAng="-418788" swAng="-4981212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1052"/>
            <p:cNvSpPr/>
            <p:nvPr/>
          </p:nvSpPr>
          <p:spPr>
            <a:xfrm rot="11095200">
              <a:off x="2057400" y="304200"/>
              <a:ext cx="990720" cy="1143000"/>
            </a:xfrm>
            <a:custGeom>
              <a:avLst/>
              <a:gdLst>
                <a:gd name="textAreaLeft" fmla="*/ 132480 w 990720"/>
                <a:gd name="textAreaRight" fmla="*/ 858240 w 990720"/>
                <a:gd name="textAreaTop" fmla="*/ 195480 h 1143000"/>
                <a:gd name="textAreaBottom" fmla="*/ 8506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2644716"/>
                  <a:lnTo>
                    <a:pt x="7200" y="21177"/>
                  </a:lnTo>
                  <a:lnTo>
                    <a:pt x="0" y="17280"/>
                  </a:lnTo>
                  <a:lnTo>
                    <a:pt x="7200" y="12537"/>
                  </a:lnTo>
                  <a:lnTo>
                    <a:pt x="7200" y="14367"/>
                  </a:lnTo>
                  <a:arcTo wR="21600" hR="7395" stAng="2644716" swAng="-2225928"/>
                  <a:lnTo>
                    <a:pt x="20339" y="9885"/>
                  </a:lnTo>
                  <a:arcTo wR="21600" hR="7395" stAng="-418788" swAng="-4981212"/>
                  <a:close/>
                </a:path>
                <a:path fill="darkenLess"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-418788"/>
                  <a:lnTo>
                    <a:pt x="20339" y="9885"/>
                  </a:lnTo>
                  <a:arcTo wR="21600" hR="7395" stAng="-418788" swAng="-4981212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Text Box 1053"/>
          <p:cNvSpPr/>
          <p:nvPr/>
        </p:nvSpPr>
        <p:spPr>
          <a:xfrm>
            <a:off x="3200400" y="593640"/>
            <a:ext cx="39625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منحنى النشاط الطبيع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056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75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80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85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067"/>
          <p:cNvGrpSpPr/>
          <p:nvPr/>
        </p:nvGrpSpPr>
        <p:grpSpPr>
          <a:xfrm>
            <a:off x="129240" y="958680"/>
            <a:ext cx="8729640" cy="5626800"/>
            <a:chOff x="129240" y="958680"/>
            <a:chExt cx="8729640" cy="5626800"/>
          </a:xfrm>
        </p:grpSpPr>
        <p:sp>
          <p:nvSpPr>
            <p:cNvPr id="51" name="AutoShape 2066"/>
            <p:cNvSpPr/>
            <p:nvPr/>
          </p:nvSpPr>
          <p:spPr>
            <a:xfrm rot="10827000">
              <a:off x="150480" y="992160"/>
              <a:ext cx="8612280" cy="548496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2051"/>
            <p:cNvSpPr/>
            <p:nvPr/>
          </p:nvSpPr>
          <p:spPr>
            <a:xfrm rot="10827000">
              <a:off x="225000" y="1066680"/>
              <a:ext cx="8612280" cy="548496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2059"/>
          <p:cNvSpPr/>
          <p:nvPr/>
        </p:nvSpPr>
        <p:spPr>
          <a:xfrm>
            <a:off x="-838080" y="3679920"/>
            <a:ext cx="95248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 . استطلاع الواق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ب . وضع الأهداف وتحديد الأولو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 ج . تحديد الأنشطة وبرنامجها الزمن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60"/>
          <p:cNvSpPr/>
          <p:nvPr/>
        </p:nvSpPr>
        <p:spPr>
          <a:xfrm>
            <a:off x="0" y="1676520"/>
            <a:ext cx="868680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أ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جمع المعلوم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ب . اختبار النشاطات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 ج . منحنى النشاط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62">
            <a:hlinkClick r:id="rId2" action="ppaction://hlinksldjump"/>
          </p:cNvPr>
          <p:cNvSpPr/>
          <p:nvPr/>
        </p:nvSpPr>
        <p:spPr>
          <a:xfrm>
            <a:off x="6095880" y="2209680"/>
            <a:ext cx="25909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تحليل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063">
            <a:hlinkClick r:id="rId3" action="ppaction://hlinksldjump"/>
          </p:cNvPr>
          <p:cNvSpPr/>
          <p:nvPr/>
        </p:nvSpPr>
        <p:spPr>
          <a:xfrm>
            <a:off x="6172200" y="4114800"/>
            <a:ext cx="25909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ـخـــطي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064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ثاني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600200" y="1752480"/>
            <a:ext cx="6248520" cy="4419720"/>
            <a:chOff x="1600200" y="1752480"/>
            <a:chExt cx="6248520" cy="4419720"/>
          </a:xfrm>
        </p:grpSpPr>
        <p:sp>
          <p:nvSpPr>
            <p:cNvPr id="195" name="AutoShape 4"/>
            <p:cNvSpPr/>
            <p:nvPr/>
          </p:nvSpPr>
          <p:spPr>
            <a:xfrm>
              <a:off x="1600200" y="175248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5"/>
            <p:cNvSpPr/>
            <p:nvPr/>
          </p:nvSpPr>
          <p:spPr>
            <a:xfrm>
              <a:off x="1676520" y="18288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خطيط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676520" y="152280"/>
            <a:ext cx="6019560" cy="1219320"/>
          </a:xfrm>
          <a:prstGeom prst="cloudCallout">
            <a:avLst>
              <a:gd name="adj1" fmla="val -2212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خطيط الوق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>
            <a:hlinkClick r:id="rId2" action="ppaction://hlinksldjump"/>
          </p:cNvPr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ما هو التخطيط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هكذا يكون التخطيط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خطة 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286000" y="76320"/>
            <a:ext cx="4724280" cy="16002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28600" y="1905120"/>
            <a:ext cx="8763120" cy="21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هو محاولة التنبؤ بالوقت المتاح في فترة مقبلة        و الأعمال المطلوبة.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0880" y="3672000"/>
            <a:ext cx="8382240" cy="1556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إنجاز أهداف محدد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وبرمجة كل ذلك في ضوء :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533520" y="4724280"/>
            <a:ext cx="3047760" cy="1752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قيود المفروض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5715000" y="4800600"/>
            <a:ext cx="3048120" cy="17524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فرص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متاح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3048120" y="76320"/>
            <a:ext cx="3200400" cy="160020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52480" y="2057400"/>
            <a:ext cx="5334120" cy="1556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يُضيف لك أشياء هامة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638680" y="3429000"/>
            <a:ext cx="327672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يُخبرك كيف تصل إل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ما تصبو إلي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3429000"/>
            <a:ext cx="30481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ُبين لك ما تحتاج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للوصول لما تر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52280" y="5410080"/>
            <a:ext cx="868680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متى تبدأ المهمة حتى تنتهي منها في موعدها المح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8153280" y="6400800"/>
            <a:ext cx="762120" cy="380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7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7"/>
          <p:cNvGrpSpPr/>
          <p:nvPr/>
        </p:nvGrpSpPr>
        <p:grpSpPr>
          <a:xfrm>
            <a:off x="2057400" y="533520"/>
            <a:ext cx="5410080" cy="1371600"/>
            <a:chOff x="2057400" y="533520"/>
            <a:chExt cx="5410080" cy="1371600"/>
          </a:xfrm>
        </p:grpSpPr>
        <p:sp>
          <p:nvSpPr>
            <p:cNvPr id="214" name="AutoShape 6"/>
            <p:cNvSpPr/>
            <p:nvPr/>
          </p:nvSpPr>
          <p:spPr>
            <a:xfrm>
              <a:off x="2133720" y="609480"/>
              <a:ext cx="5333760" cy="1295640"/>
            </a:xfrm>
            <a:prstGeom prst="downArrowCallout">
              <a:avLst>
                <a:gd name="adj1" fmla="val 102927"/>
                <a:gd name="adj2" fmla="val 102917"/>
                <a:gd name="adj3" fmla="val 16667"/>
                <a:gd name="adj4" fmla="val 6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4"/>
            <p:cNvSpPr/>
            <p:nvPr/>
          </p:nvSpPr>
          <p:spPr>
            <a:xfrm>
              <a:off x="2057400" y="533520"/>
              <a:ext cx="5334120" cy="1295280"/>
            </a:xfrm>
            <a:prstGeom prst="downArrowCallout">
              <a:avLst>
                <a:gd name="adj1" fmla="val 102963"/>
                <a:gd name="adj2" fmla="val 102953"/>
                <a:gd name="adj3" fmla="val 16667"/>
                <a:gd name="adj4" fmla="val 6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2"/>
          <p:cNvSpPr/>
          <p:nvPr/>
        </p:nvSpPr>
        <p:spPr>
          <a:xfrm>
            <a:off x="2057400" y="533520"/>
            <a:ext cx="5029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هكذا يكون التخطيط</a:t>
            </a:r>
            <a:r>
              <a:rPr b="1" lang="ar-SA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-152280" y="2133720"/>
            <a:ext cx="9143280" cy="4723920"/>
            <a:chOff x="-152280" y="2133720"/>
            <a:chExt cx="9143280" cy="4723920"/>
          </a:xfrm>
        </p:grpSpPr>
        <p:sp>
          <p:nvSpPr>
            <p:cNvPr id="218" name="AutoShape 8"/>
            <p:cNvSpPr/>
            <p:nvPr/>
          </p:nvSpPr>
          <p:spPr>
            <a:xfrm>
              <a:off x="512280" y="2133720"/>
              <a:ext cx="8478720" cy="472392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3"/>
            <p:cNvSpPr/>
            <p:nvPr/>
          </p:nvSpPr>
          <p:spPr>
            <a:xfrm>
              <a:off x="-152280" y="2133720"/>
              <a:ext cx="8977680" cy="429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90000"/>
                </a:lnSpc>
                <a:spcBef>
                  <a:spcPts val="2750"/>
                </a:spcBef>
                <a:buClr>
                  <a:srgbClr val="8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800000"/>
                  </a:solidFill>
                  <a:latin typeface="Times New Roman"/>
                </a:rPr>
                <a:t> انفق في التخطيط ما يستحقه من وقت ومجهود .    </a:t>
              </a:r>
              <a:r>
                <a:rPr b="1" lang="ar-SA" sz="4400" spc="-1" strike="noStrike">
                  <a:solidFill>
                    <a:srgbClr val="ff3300"/>
                  </a:solidFill>
                  <a:latin typeface="Times New Roman"/>
                </a:rPr>
                <a:t>{ أسبوع ـ يوم ـ ساعة 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40000"/>
                </a:lnSpc>
                <a:spcBef>
                  <a:spcPts val="2750"/>
                </a:spcBef>
                <a:buClr>
                  <a:srgbClr val="a50021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a50021"/>
                  </a:solidFill>
                  <a:latin typeface="Times New Roman"/>
                </a:rPr>
                <a:t> اجعل خطتك مكتوبة .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40000"/>
                </a:lnSpc>
                <a:spcBef>
                  <a:spcPts val="2750"/>
                </a:spcBef>
                <a:buClr>
                  <a:srgbClr val="996633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 ضع خطة سنوية وشهرية وأسبوعية 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spcBef>
                  <a:spcPts val="2750"/>
                </a:spcBef>
                <a:buClr>
                  <a:srgbClr val="996633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 راعي صفات الهدف الجيد .</a:t>
              </a: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AutoShape 10"/>
          <p:cNvSpPr/>
          <p:nvPr/>
        </p:nvSpPr>
        <p:spPr>
          <a:xfrm>
            <a:off x="2362320" y="5105520"/>
            <a:ext cx="1143000" cy="1218960"/>
          </a:xfrm>
          <a:prstGeom prst="downArrow">
            <a:avLst>
              <a:gd name="adj1" fmla="val 50000"/>
              <a:gd name="adj2" fmla="val 266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026"/>
          <p:cNvGrpSpPr/>
          <p:nvPr/>
        </p:nvGrpSpPr>
        <p:grpSpPr>
          <a:xfrm>
            <a:off x="76320" y="152280"/>
            <a:ext cx="8915400" cy="1739880"/>
            <a:chOff x="76320" y="152280"/>
            <a:chExt cx="8915400" cy="1739880"/>
          </a:xfrm>
        </p:grpSpPr>
        <p:sp>
          <p:nvSpPr>
            <p:cNvPr id="222" name="Rectangle 1027"/>
            <p:cNvSpPr/>
            <p:nvPr/>
          </p:nvSpPr>
          <p:spPr>
            <a:xfrm>
              <a:off x="2286000" y="228600"/>
              <a:ext cx="67057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028"/>
            <p:cNvSpPr/>
            <p:nvPr/>
          </p:nvSpPr>
          <p:spPr>
            <a:xfrm>
              <a:off x="76320" y="152280"/>
              <a:ext cx="883908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99"/>
                  </a:solidFill>
                  <a:latin typeface="Times New Roman"/>
                </a:rPr>
                <a:t>الهدف الجيد يجب أن يكون :</a:t>
              </a:r>
              <a:r>
                <a:rPr b="0" lang="ar-SA" sz="5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029"/>
          <p:cNvGrpSpPr/>
          <p:nvPr/>
        </p:nvGrpSpPr>
        <p:grpSpPr>
          <a:xfrm>
            <a:off x="6858000" y="1219320"/>
            <a:ext cx="2209680" cy="990360"/>
            <a:chOff x="6858000" y="1219320"/>
            <a:chExt cx="2209680" cy="990360"/>
          </a:xfrm>
        </p:grpSpPr>
        <p:sp>
          <p:nvSpPr>
            <p:cNvPr id="225" name="AutoShape 1030"/>
            <p:cNvSpPr/>
            <p:nvPr/>
          </p:nvSpPr>
          <p:spPr>
            <a:xfrm>
              <a:off x="6858000" y="1371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31"/>
            <p:cNvSpPr/>
            <p:nvPr/>
          </p:nvSpPr>
          <p:spPr>
            <a:xfrm>
              <a:off x="7391520" y="1219320"/>
              <a:ext cx="1676160" cy="9903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ffff00"/>
                  </a:solidFill>
                  <a:latin typeface="Times New Roman"/>
                </a:rPr>
                <a:t>واضح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Text Box 103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ليس فيه غمو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33"/>
          <p:cNvSpPr/>
          <p:nvPr/>
        </p:nvSpPr>
        <p:spPr>
          <a:xfrm>
            <a:off x="533520" y="2362320"/>
            <a:ext cx="6095880" cy="1556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من الأفضل في صورة رقم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34"/>
          <p:cNvSpPr/>
          <p:nvPr/>
        </p:nvSpPr>
        <p:spPr>
          <a:xfrm>
            <a:off x="457200" y="3505320"/>
            <a:ext cx="6172200" cy="1556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Times New Roman"/>
              </a:rPr>
              <a:t>يمكن تحقيقه في أرض الواق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5"/>
          <p:cNvSpPr/>
          <p:nvPr/>
        </p:nvSpPr>
        <p:spPr>
          <a:xfrm>
            <a:off x="457200" y="4648320"/>
            <a:ext cx="6172200" cy="1556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يتحقق من خلاله إنجاز ج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36"/>
          <p:cNvSpPr/>
          <p:nvPr/>
        </p:nvSpPr>
        <p:spPr>
          <a:xfrm>
            <a:off x="380880" y="5867280"/>
            <a:ext cx="6324840" cy="1495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له مدة زمنية يجب تحقيقه خلالها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1037"/>
          <p:cNvGrpSpPr/>
          <p:nvPr/>
        </p:nvGrpSpPr>
        <p:grpSpPr>
          <a:xfrm>
            <a:off x="6858000" y="2286000"/>
            <a:ext cx="2209680" cy="990360"/>
            <a:chOff x="6858000" y="2286000"/>
            <a:chExt cx="2209680" cy="990360"/>
          </a:xfrm>
        </p:grpSpPr>
        <p:sp>
          <p:nvSpPr>
            <p:cNvPr id="233" name="AutoShape 1038"/>
            <p:cNvSpPr/>
            <p:nvPr/>
          </p:nvSpPr>
          <p:spPr>
            <a:xfrm>
              <a:off x="6858000" y="243828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39"/>
            <p:cNvSpPr/>
            <p:nvPr/>
          </p:nvSpPr>
          <p:spPr>
            <a:xfrm>
              <a:off x="7391520" y="2286000"/>
              <a:ext cx="167616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قابلا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للقيا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040"/>
          <p:cNvGrpSpPr/>
          <p:nvPr/>
        </p:nvGrpSpPr>
        <p:grpSpPr>
          <a:xfrm>
            <a:off x="6858000" y="3429000"/>
            <a:ext cx="2209680" cy="990360"/>
            <a:chOff x="6858000" y="3429000"/>
            <a:chExt cx="2209680" cy="990360"/>
          </a:xfrm>
        </p:grpSpPr>
        <p:sp>
          <p:nvSpPr>
            <p:cNvPr id="236" name="AutoShape 1041"/>
            <p:cNvSpPr/>
            <p:nvPr/>
          </p:nvSpPr>
          <p:spPr>
            <a:xfrm>
              <a:off x="6858000" y="358128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42"/>
            <p:cNvSpPr/>
            <p:nvPr/>
          </p:nvSpPr>
          <p:spPr>
            <a:xfrm>
              <a:off x="7391520" y="3429000"/>
              <a:ext cx="16761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cc3300"/>
                  </a:solidFill>
                  <a:latin typeface="Times New Roman"/>
                </a:rPr>
                <a:t>واقعي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1043"/>
          <p:cNvGrpSpPr/>
          <p:nvPr/>
        </p:nvGrpSpPr>
        <p:grpSpPr>
          <a:xfrm>
            <a:off x="6858000" y="4648320"/>
            <a:ext cx="2209680" cy="990360"/>
            <a:chOff x="6858000" y="4648320"/>
            <a:chExt cx="2209680" cy="990360"/>
          </a:xfrm>
        </p:grpSpPr>
        <p:sp>
          <p:nvSpPr>
            <p:cNvPr id="239" name="AutoShape 1044"/>
            <p:cNvSpPr/>
            <p:nvPr/>
          </p:nvSpPr>
          <p:spPr>
            <a:xfrm>
              <a:off x="6858000" y="4800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45"/>
            <p:cNvSpPr/>
            <p:nvPr/>
          </p:nvSpPr>
          <p:spPr>
            <a:xfrm>
              <a:off x="7391520" y="4648320"/>
              <a:ext cx="1676160" cy="99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3333cc"/>
                  </a:solidFill>
                  <a:latin typeface="Times New Roman"/>
                </a:rPr>
                <a:t>طموح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046"/>
          <p:cNvGrpSpPr/>
          <p:nvPr/>
        </p:nvGrpSpPr>
        <p:grpSpPr>
          <a:xfrm>
            <a:off x="6858000" y="5791320"/>
            <a:ext cx="2209680" cy="990360"/>
            <a:chOff x="6858000" y="5791320"/>
            <a:chExt cx="2209680" cy="990360"/>
          </a:xfrm>
        </p:grpSpPr>
        <p:sp>
          <p:nvSpPr>
            <p:cNvPr id="242" name="AutoShape 1047"/>
            <p:cNvSpPr/>
            <p:nvPr/>
          </p:nvSpPr>
          <p:spPr>
            <a:xfrm>
              <a:off x="6858000" y="5943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048"/>
            <p:cNvSpPr/>
            <p:nvPr/>
          </p:nvSpPr>
          <p:spPr>
            <a:xfrm>
              <a:off x="7391520" y="5791320"/>
              <a:ext cx="1676160" cy="99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cc3300"/>
                  </a:solidFill>
                  <a:latin typeface="Times New Roman"/>
                </a:rPr>
                <a:t>محدد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033"/>
          <p:cNvSpPr/>
          <p:nvPr/>
        </p:nvSpPr>
        <p:spPr>
          <a:xfrm>
            <a:off x="3505320" y="380880"/>
            <a:ext cx="2514600" cy="228600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</a:rPr>
              <a:t>احذر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034"/>
          <p:cNvSpPr/>
          <p:nvPr/>
        </p:nvSpPr>
        <p:spPr>
          <a:xfrm>
            <a:off x="914400" y="3124080"/>
            <a:ext cx="7924680" cy="1447920"/>
          </a:xfrm>
          <a:custGeom>
            <a:avLst/>
            <a:gdLst>
              <a:gd name="textAreaLeft" fmla="*/ 0 w 7924680"/>
              <a:gd name="textAreaRight" fmla="*/ 7925040 w 792468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أن يتحول التخطيط إلى أحد مضيعات الوق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035"/>
          <p:cNvSpPr/>
          <p:nvPr/>
        </p:nvSpPr>
        <p:spPr>
          <a:xfrm>
            <a:off x="1066680" y="4952880"/>
            <a:ext cx="7391520" cy="1447920"/>
          </a:xfrm>
          <a:custGeom>
            <a:avLst/>
            <a:gdLst>
              <a:gd name="textAreaLeft" fmla="*/ 0 w 7391520"/>
              <a:gd name="textAreaRight" fmla="*/ 7391880 w 739152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أن تترك خطتك للذاكرة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037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9"/>
          <p:cNvSpPr/>
          <p:nvPr/>
        </p:nvSpPr>
        <p:spPr>
          <a:xfrm>
            <a:off x="228600" y="3200400"/>
            <a:ext cx="8534520" cy="35053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276720" y="1828800"/>
            <a:ext cx="55623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66880" y="1905120"/>
            <a:ext cx="6096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أولاً :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 استطلاع الواق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3398760"/>
            <a:ext cx="8534520" cy="390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حليل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دراسة الظروف الخارجية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( الفرص المتاحة ـ القيود والمعوقات )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دراسة الإمكانات المتاحة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: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( نقاط القوة ـ نقاط الضعف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8"/>
          <p:cNvSpPr/>
          <p:nvPr/>
        </p:nvSpPr>
        <p:spPr>
          <a:xfrm>
            <a:off x="228600" y="2895480"/>
            <a:ext cx="8610480" cy="3733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28600" y="1676520"/>
            <a:ext cx="8686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1600200"/>
            <a:ext cx="8839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ثانياً : وضع الأهداف وتحديد الأولويات</a:t>
            </a:r>
            <a:r>
              <a:rPr b="0" lang="ar-SA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52280" y="3030480"/>
            <a:ext cx="85345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حديد الأهداف السنوية وترتيب الأولوي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وزيع الأهداف السنوية على الأشهر ثم الأسابيع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راع صفات الهدف الجي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ابد أن تشمل الأهداف الجوانب المختلفة لحيات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ا تفرط في وضع الأهداف ..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609480" y="5638680"/>
            <a:ext cx="2667240" cy="8384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ن واقعيا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500"/>
                            </p:stCondLst>
                            <p:childTnLst>
                              <p:par>
                                <p:cTn id="9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7"/>
          <p:cNvSpPr/>
          <p:nvPr/>
        </p:nvSpPr>
        <p:spPr>
          <a:xfrm>
            <a:off x="152280" y="2666880"/>
            <a:ext cx="8915400" cy="4114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66680" y="1676520"/>
            <a:ext cx="78487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0" y="1600200"/>
            <a:ext cx="8839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99"/>
                </a:solidFill>
                <a:latin typeface="Times New Roman"/>
              </a:rPr>
              <a:t>ثالثاً: تحديد الأنشطة وبرنامجها الزمني</a:t>
            </a:r>
            <a:r>
              <a:rPr b="0" lang="ar-SA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52280" y="2820960"/>
            <a:ext cx="891540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تحديد الأنشطة للأهداف السنوية ثم الشهرية ثم الأسبوعية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إلغاء الأنشطة غير الضرورية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رتيب الأنشطة بحسب الأولوي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إعداد جدول زمني لكل مهم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حديد الإمكانيات المطلوبة لكل مهم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حديد المسئول عن كل مهمة .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28600" y="3352680"/>
            <a:ext cx="380988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وتفويض بعض المهام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8077320" y="6324480"/>
            <a:ext cx="76176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500"/>
                            </p:stCondLst>
                            <p:childTnLst>
                              <p:par>
                                <p:cTn id="9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359640" y="654120"/>
            <a:ext cx="8499960" cy="5930280"/>
            <a:chOff x="359640" y="654120"/>
            <a:chExt cx="8499960" cy="5930280"/>
          </a:xfrm>
        </p:grpSpPr>
        <p:sp>
          <p:nvSpPr>
            <p:cNvPr id="59" name="AutoShape 8"/>
            <p:cNvSpPr/>
            <p:nvPr/>
          </p:nvSpPr>
          <p:spPr>
            <a:xfrm rot="10827000">
              <a:off x="381960" y="686520"/>
              <a:ext cx="8380440" cy="57898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2"/>
            <p:cNvSpPr/>
            <p:nvPr/>
          </p:nvSpPr>
          <p:spPr>
            <a:xfrm rot="10827000">
              <a:off x="456480" y="761760"/>
              <a:ext cx="8380440" cy="578952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3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-457200" y="4267080"/>
            <a:ext cx="883908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أ .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مراحل التنفي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                       ب . نصائح عامة للتنفيذ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                                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ج . قواعد عامة للتنفي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023920"/>
            <a:ext cx="784872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. إعداد قائمة الأعمال اليوم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ب . التفويض الفعا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ج . تنظيم مكان العم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>
            <a:hlinkClick r:id="rId2" action="ppaction://hlinksldjump"/>
          </p:cNvPr>
          <p:cNvSpPr/>
          <p:nvPr/>
        </p:nvSpPr>
        <p:spPr>
          <a:xfrm>
            <a:off x="6705720" y="2057400"/>
            <a:ext cx="18288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نظ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>
            <a:hlinkClick r:id="rId3" action="ppaction://hlinksldjump"/>
          </p:cNvPr>
          <p:cNvSpPr/>
          <p:nvPr/>
        </p:nvSpPr>
        <p:spPr>
          <a:xfrm>
            <a:off x="6705720" y="4267080"/>
            <a:ext cx="182880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نفي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600200" y="1752480"/>
            <a:ext cx="6248520" cy="4419720"/>
            <a:chOff x="1600200" y="1752480"/>
            <a:chExt cx="6248520" cy="4419720"/>
          </a:xfrm>
        </p:grpSpPr>
        <p:sp>
          <p:nvSpPr>
            <p:cNvPr id="270" name="AutoShape 3"/>
            <p:cNvSpPr/>
            <p:nvPr/>
          </p:nvSpPr>
          <p:spPr>
            <a:xfrm>
              <a:off x="1600200" y="175248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4"/>
            <p:cNvSpPr/>
            <p:nvPr/>
          </p:nvSpPr>
          <p:spPr>
            <a:xfrm>
              <a:off x="1676520" y="18288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نظيم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ثالث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4"/>
          <p:cNvSpPr/>
          <p:nvPr/>
        </p:nvSpPr>
        <p:spPr>
          <a:xfrm>
            <a:off x="2133720" y="152280"/>
            <a:ext cx="5562360" cy="1219320"/>
          </a:xfrm>
          <a:prstGeom prst="cloudCallout">
            <a:avLst>
              <a:gd name="adj1" fmla="val -650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نظيم الوق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إعداد قائمة الأعمال اليوم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التفويض الفعا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نظيم مكان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28600" y="152280"/>
            <a:ext cx="9524880" cy="8153640"/>
          </a:xfrm>
          <a:prstGeom prst="flowChartMultidocument">
            <a:avLst/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1600200" y="76320"/>
            <a:ext cx="6705720" cy="1447560"/>
          </a:xfrm>
          <a:prstGeom prst="ellipse">
            <a:avLst/>
          </a:prstGeom>
          <a:solidFill>
            <a:srgbClr val="66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25146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إعداد قائمة الأعمال اليومية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85800" y="1482840"/>
            <a:ext cx="8153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ضع خطتك الأسبوعية في متناول يدك أثناء الإعدا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 ضع قائمتك  في نفس الوقت من كل ي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لا تضع أكثر من قائمة ( صغيرة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أعد قائمتك الخاصة التي تناسب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كتب كل نشاطاتك في القائ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قسم وقتك على مهامك حسب الأولوية                  ( قاعدة </a:t>
            </a: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80/20</a:t>
            </a: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أجمع النشاطات المتشابهة والمتواز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خصص لكل مهمة وقتاً محدداً لإنجاز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228600" y="152280"/>
            <a:ext cx="9524880" cy="8153640"/>
          </a:xfrm>
          <a:prstGeom prst="flowChartMultidocument">
            <a:avLst/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1600200" y="76320"/>
            <a:ext cx="6705720" cy="1447560"/>
          </a:xfrm>
          <a:prstGeom prst="ellipse">
            <a:avLst/>
          </a:prstGeom>
          <a:solidFill>
            <a:srgbClr val="66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25146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إعداد قائمة الأعمال اليومية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85800" y="16858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راجع مهامك اليومية ( تخلص من غير الضروري وفوض بعضها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 لا تجدول كل دقيقة في وقتك .. اترك وقتاً للطوارئ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تعامل جيداً مع الأمور الطارئ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ترك وقتاً للراحة .. لنفسك .. لأسرتك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ضع القائمة دائماً في متناول يدك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لتزم بقائمت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لا تفرط في التنظي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0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2438280" y="76320"/>
            <a:ext cx="5105520" cy="914400"/>
            <a:chOff x="2438280" y="76320"/>
            <a:chExt cx="5105520" cy="914400"/>
          </a:xfrm>
        </p:grpSpPr>
        <p:sp>
          <p:nvSpPr>
            <p:cNvPr id="287" name="AutoShape 3"/>
            <p:cNvSpPr/>
            <p:nvPr/>
          </p:nvSpPr>
          <p:spPr>
            <a:xfrm>
              <a:off x="2438280" y="76320"/>
              <a:ext cx="5029200" cy="838440"/>
            </a:xfrm>
            <a:prstGeom prst="plus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التنفيذ على أربع مراحل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4"/>
            <p:cNvSpPr/>
            <p:nvPr/>
          </p:nvSpPr>
          <p:spPr>
            <a:xfrm>
              <a:off x="2514600" y="152640"/>
              <a:ext cx="5029200" cy="838080"/>
            </a:xfrm>
            <a:prstGeom prst="plus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جدول ايزنهاور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"/>
          <p:cNvGrpSpPr/>
          <p:nvPr/>
        </p:nvGrpSpPr>
        <p:grpSpPr>
          <a:xfrm>
            <a:off x="1143000" y="1143000"/>
            <a:ext cx="7238880" cy="2057040"/>
            <a:chOff x="1143000" y="1143000"/>
            <a:chExt cx="7238880" cy="2057040"/>
          </a:xfrm>
        </p:grpSpPr>
        <p:sp>
          <p:nvSpPr>
            <p:cNvPr id="290" name="Line 6"/>
            <p:cNvSpPr/>
            <p:nvPr/>
          </p:nvSpPr>
          <p:spPr>
            <a:xfrm>
              <a:off x="1143000" y="1160640"/>
              <a:ext cx="0" cy="1934280"/>
            </a:xfrm>
            <a:prstGeom prst="line">
              <a:avLst/>
            </a:prstGeom>
            <a:ln cap="sq"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Group 7"/>
            <p:cNvGrpSpPr/>
            <p:nvPr/>
          </p:nvGrpSpPr>
          <p:grpSpPr>
            <a:xfrm>
              <a:off x="1143000" y="1143000"/>
              <a:ext cx="7238880" cy="2057040"/>
              <a:chOff x="1143000" y="1143000"/>
              <a:chExt cx="7238880" cy="2057040"/>
            </a:xfrm>
          </p:grpSpPr>
          <p:grpSp>
            <p:nvGrpSpPr>
              <p:cNvPr id="292" name="Group 8"/>
              <p:cNvGrpSpPr/>
              <p:nvPr/>
            </p:nvGrpSpPr>
            <p:grpSpPr>
              <a:xfrm>
                <a:off x="1143000" y="1143000"/>
                <a:ext cx="7238880" cy="1951920"/>
                <a:chOff x="1143000" y="1143000"/>
                <a:chExt cx="7238880" cy="1951920"/>
              </a:xfrm>
            </p:grpSpPr>
            <p:sp>
              <p:nvSpPr>
                <p:cNvPr id="293" name="Rectangle 9"/>
                <p:cNvSpPr/>
                <p:nvPr/>
              </p:nvSpPr>
              <p:spPr>
                <a:xfrm>
                  <a:off x="6248520" y="2461680"/>
                  <a:ext cx="2133360" cy="6328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غير مهم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0"/>
                <p:cNvSpPr/>
                <p:nvPr/>
              </p:nvSpPr>
              <p:spPr>
                <a:xfrm>
                  <a:off x="3556080" y="2461680"/>
                  <a:ext cx="2692440" cy="6328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ج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11"/>
                <p:cNvSpPr/>
                <p:nvPr/>
              </p:nvSpPr>
              <p:spPr>
                <a:xfrm>
                  <a:off x="1143000" y="2461680"/>
                  <a:ext cx="2413080" cy="6328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د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12"/>
                <p:cNvSpPr/>
                <p:nvPr/>
              </p:nvSpPr>
              <p:spPr>
                <a:xfrm>
                  <a:off x="6248520" y="1775880"/>
                  <a:ext cx="2133360" cy="6858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مهم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Rectangle 13"/>
                <p:cNvSpPr/>
                <p:nvPr/>
              </p:nvSpPr>
              <p:spPr>
                <a:xfrm>
                  <a:off x="3556080" y="1775880"/>
                  <a:ext cx="2692440" cy="6858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أ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14"/>
                <p:cNvSpPr/>
                <p:nvPr/>
              </p:nvSpPr>
              <p:spPr>
                <a:xfrm>
                  <a:off x="1143000" y="1775880"/>
                  <a:ext cx="2413080" cy="6858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ff6600"/>
                      </a:solidFill>
                      <a:latin typeface="Times New Roman"/>
                    </a:rPr>
                    <a:t>ب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15"/>
                <p:cNvSpPr/>
                <p:nvPr/>
              </p:nvSpPr>
              <p:spPr>
                <a:xfrm>
                  <a:off x="6248520" y="1160640"/>
                  <a:ext cx="2133360" cy="6152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Rectangle 16"/>
                <p:cNvSpPr/>
                <p:nvPr/>
              </p:nvSpPr>
              <p:spPr>
                <a:xfrm>
                  <a:off x="3556080" y="1160640"/>
                  <a:ext cx="2692440" cy="61524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عاجل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17"/>
                <p:cNvSpPr/>
                <p:nvPr/>
              </p:nvSpPr>
              <p:spPr>
                <a:xfrm>
                  <a:off x="1143000" y="1160640"/>
                  <a:ext cx="2413080" cy="61524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ff6600"/>
                      </a:solidFill>
                      <a:latin typeface="Times New Roman"/>
                    </a:rPr>
                    <a:t>غير عاجل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18"/>
                <p:cNvSpPr/>
                <p:nvPr/>
              </p:nvSpPr>
              <p:spPr>
                <a:xfrm>
                  <a:off x="1143000" y="1775880"/>
                  <a:ext cx="7238880" cy="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19"/>
                <p:cNvSpPr/>
                <p:nvPr/>
              </p:nvSpPr>
              <p:spPr>
                <a:xfrm>
                  <a:off x="1143000" y="2461680"/>
                  <a:ext cx="7238880" cy="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"/>
                <p:cNvSpPr/>
                <p:nvPr/>
              </p:nvSpPr>
              <p:spPr>
                <a:xfrm>
                  <a:off x="3556080" y="1160640"/>
                  <a:ext cx="0" cy="193428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1"/>
                <p:cNvSpPr/>
                <p:nvPr/>
              </p:nvSpPr>
              <p:spPr>
                <a:xfrm>
                  <a:off x="6248520" y="1160640"/>
                  <a:ext cx="0" cy="193428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22"/>
                <p:cNvSpPr/>
                <p:nvPr/>
              </p:nvSpPr>
              <p:spPr>
                <a:xfrm>
                  <a:off x="1143000" y="1160640"/>
                  <a:ext cx="7238880" cy="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"/>
                <p:cNvSpPr/>
                <p:nvPr/>
              </p:nvSpPr>
              <p:spPr>
                <a:xfrm>
                  <a:off x="8381880" y="1143000"/>
                  <a:ext cx="0" cy="193428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24"/>
                <p:cNvSpPr/>
                <p:nvPr/>
              </p:nvSpPr>
              <p:spPr>
                <a:xfrm>
                  <a:off x="1143000" y="3094920"/>
                  <a:ext cx="7238880" cy="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25"/>
              <p:cNvGrpSpPr/>
              <p:nvPr/>
            </p:nvGrpSpPr>
            <p:grpSpPr>
              <a:xfrm>
                <a:off x="1143000" y="1195560"/>
                <a:ext cx="7238880" cy="2004480"/>
                <a:chOff x="1143000" y="1195560"/>
                <a:chExt cx="7238880" cy="2004480"/>
              </a:xfrm>
            </p:grpSpPr>
            <p:grpSp>
              <p:nvGrpSpPr>
                <p:cNvPr id="310" name="Group 26"/>
                <p:cNvGrpSpPr/>
                <p:nvPr/>
              </p:nvGrpSpPr>
              <p:grpSpPr>
                <a:xfrm>
                  <a:off x="1143000" y="1195560"/>
                  <a:ext cx="7238880" cy="1951560"/>
                  <a:chOff x="1143000" y="1195560"/>
                  <a:chExt cx="7238880" cy="1951560"/>
                </a:xfrm>
              </p:grpSpPr>
              <p:sp>
                <p:nvSpPr>
                  <p:cNvPr id="311" name="Rectangle 27"/>
                  <p:cNvSpPr/>
                  <p:nvPr/>
                </p:nvSpPr>
                <p:spPr>
                  <a:xfrm>
                    <a:off x="6248520" y="2514240"/>
                    <a:ext cx="2133360" cy="6328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غير مهم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3556080" y="2514240"/>
                    <a:ext cx="2692440" cy="6328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ج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Rectangle 29"/>
                  <p:cNvSpPr/>
                  <p:nvPr/>
                </p:nvSpPr>
                <p:spPr>
                  <a:xfrm>
                    <a:off x="1143000" y="2514240"/>
                    <a:ext cx="2413080" cy="63288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د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30"/>
                  <p:cNvSpPr/>
                  <p:nvPr/>
                </p:nvSpPr>
                <p:spPr>
                  <a:xfrm>
                    <a:off x="6248520" y="1828440"/>
                    <a:ext cx="2133360" cy="68544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مهم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1"/>
                  <p:cNvSpPr/>
                  <p:nvPr/>
                </p:nvSpPr>
                <p:spPr>
                  <a:xfrm>
                    <a:off x="3556080" y="1828440"/>
                    <a:ext cx="2692440" cy="68544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أ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Rectangle 32"/>
                  <p:cNvSpPr/>
                  <p:nvPr/>
                </p:nvSpPr>
                <p:spPr>
                  <a:xfrm>
                    <a:off x="1143000" y="1828440"/>
                    <a:ext cx="2413080" cy="68544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ب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Rectangle 33"/>
                  <p:cNvSpPr/>
                  <p:nvPr/>
                </p:nvSpPr>
                <p:spPr>
                  <a:xfrm>
                    <a:off x="6248520" y="1213200"/>
                    <a:ext cx="2133360" cy="6152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4"/>
                  <p:cNvSpPr/>
                  <p:nvPr/>
                </p:nvSpPr>
                <p:spPr>
                  <a:xfrm>
                    <a:off x="3556080" y="1213200"/>
                    <a:ext cx="2692440" cy="61524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عاجل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35"/>
                  <p:cNvSpPr/>
                  <p:nvPr/>
                </p:nvSpPr>
                <p:spPr>
                  <a:xfrm>
                    <a:off x="1143000" y="1213200"/>
                    <a:ext cx="2413080" cy="61524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غير عاجل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Line 36"/>
                  <p:cNvSpPr/>
                  <p:nvPr/>
                </p:nvSpPr>
                <p:spPr>
                  <a:xfrm>
                    <a:off x="1143000" y="182844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Line 37"/>
                  <p:cNvSpPr/>
                  <p:nvPr/>
                </p:nvSpPr>
                <p:spPr>
                  <a:xfrm>
                    <a:off x="1143000" y="251424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Line 38"/>
                  <p:cNvSpPr/>
                  <p:nvPr/>
                </p:nvSpPr>
                <p:spPr>
                  <a:xfrm>
                    <a:off x="3556080" y="1213200"/>
                    <a:ext cx="0" cy="193392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Line 39"/>
                  <p:cNvSpPr/>
                  <p:nvPr/>
                </p:nvSpPr>
                <p:spPr>
                  <a:xfrm>
                    <a:off x="6248520" y="1213200"/>
                    <a:ext cx="0" cy="193392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Line 40"/>
                  <p:cNvSpPr/>
                  <p:nvPr/>
                </p:nvSpPr>
                <p:spPr>
                  <a:xfrm>
                    <a:off x="1143000" y="121320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Line 41"/>
                  <p:cNvSpPr/>
                  <p:nvPr/>
                </p:nvSpPr>
                <p:spPr>
                  <a:xfrm>
                    <a:off x="8381880" y="1195560"/>
                    <a:ext cx="0" cy="193392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Line 42"/>
                  <p:cNvSpPr/>
                  <p:nvPr/>
                </p:nvSpPr>
                <p:spPr>
                  <a:xfrm>
                    <a:off x="1143000" y="314712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Group 43"/>
                <p:cNvGrpSpPr/>
                <p:nvPr/>
              </p:nvGrpSpPr>
              <p:grpSpPr>
                <a:xfrm>
                  <a:off x="1143000" y="1248120"/>
                  <a:ext cx="7238880" cy="1951920"/>
                  <a:chOff x="1143000" y="1248120"/>
                  <a:chExt cx="7238880" cy="1951920"/>
                </a:xfrm>
              </p:grpSpPr>
              <p:sp>
                <p:nvSpPr>
                  <p:cNvPr id="328" name="Rectangle 44"/>
                  <p:cNvSpPr/>
                  <p:nvPr/>
                </p:nvSpPr>
                <p:spPr>
                  <a:xfrm>
                    <a:off x="6248520" y="2566800"/>
                    <a:ext cx="2133360" cy="63288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غير مهم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45"/>
                  <p:cNvSpPr/>
                  <p:nvPr/>
                </p:nvSpPr>
                <p:spPr>
                  <a:xfrm>
                    <a:off x="3556080" y="2566800"/>
                    <a:ext cx="2692440" cy="63288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ج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Rectangle 46"/>
                  <p:cNvSpPr/>
                  <p:nvPr/>
                </p:nvSpPr>
                <p:spPr>
                  <a:xfrm>
                    <a:off x="1143000" y="2566800"/>
                    <a:ext cx="2413080" cy="632880"/>
                  </a:xfrm>
                  <a:prstGeom prst="rect">
                    <a:avLst/>
                  </a:pr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د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Rectangle 47"/>
                  <p:cNvSpPr/>
                  <p:nvPr/>
                </p:nvSpPr>
                <p:spPr>
                  <a:xfrm>
                    <a:off x="6248520" y="1881000"/>
                    <a:ext cx="2133360" cy="685800"/>
                  </a:xfrm>
                  <a:prstGeom prst="rect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مهم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Rectangle 48"/>
                  <p:cNvSpPr/>
                  <p:nvPr/>
                </p:nvSpPr>
                <p:spPr>
                  <a:xfrm>
                    <a:off x="3556080" y="1881000"/>
                    <a:ext cx="2692440" cy="685800"/>
                  </a:xfrm>
                  <a:prstGeom prst="rect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أ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Rectangle 49"/>
                  <p:cNvSpPr/>
                  <p:nvPr/>
                </p:nvSpPr>
                <p:spPr>
                  <a:xfrm>
                    <a:off x="1143000" y="1881000"/>
                    <a:ext cx="2413080" cy="685800"/>
                  </a:xfrm>
                  <a:prstGeom prst="rect">
                    <a:avLst/>
                  </a:pr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ب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Rectangle 50"/>
                  <p:cNvSpPr/>
                  <p:nvPr/>
                </p:nvSpPr>
                <p:spPr>
                  <a:xfrm>
                    <a:off x="6248520" y="1265760"/>
                    <a:ext cx="2133360" cy="615240"/>
                  </a:xfrm>
                  <a:prstGeom prst="rect">
                    <a:avLst/>
                  </a:pr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Rectangle 51"/>
                  <p:cNvSpPr/>
                  <p:nvPr/>
                </p:nvSpPr>
                <p:spPr>
                  <a:xfrm>
                    <a:off x="3556080" y="1265760"/>
                    <a:ext cx="2692440" cy="615240"/>
                  </a:xfrm>
                  <a:prstGeom prst="rect">
                    <a:avLst/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عاجل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Rectangle 52"/>
                  <p:cNvSpPr/>
                  <p:nvPr/>
                </p:nvSpPr>
                <p:spPr>
                  <a:xfrm>
                    <a:off x="1143000" y="1265760"/>
                    <a:ext cx="2413080" cy="615240"/>
                  </a:xfrm>
                  <a:prstGeom prst="rect">
                    <a:avLst/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غير عاجل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Line 53"/>
                  <p:cNvSpPr/>
                  <p:nvPr/>
                </p:nvSpPr>
                <p:spPr>
                  <a:xfrm>
                    <a:off x="1143000" y="188100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Line 54"/>
                  <p:cNvSpPr/>
                  <p:nvPr/>
                </p:nvSpPr>
                <p:spPr>
                  <a:xfrm>
                    <a:off x="1143000" y="256680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Line 55"/>
                  <p:cNvSpPr/>
                  <p:nvPr/>
                </p:nvSpPr>
                <p:spPr>
                  <a:xfrm>
                    <a:off x="3556080" y="1265760"/>
                    <a:ext cx="0" cy="193428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56"/>
                  <p:cNvSpPr/>
                  <p:nvPr/>
                </p:nvSpPr>
                <p:spPr>
                  <a:xfrm>
                    <a:off x="6248520" y="1265760"/>
                    <a:ext cx="0" cy="193428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Line 57"/>
                  <p:cNvSpPr/>
                  <p:nvPr/>
                </p:nvSpPr>
                <p:spPr>
                  <a:xfrm>
                    <a:off x="1143000" y="126576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Line 58"/>
                  <p:cNvSpPr/>
                  <p:nvPr/>
                </p:nvSpPr>
                <p:spPr>
                  <a:xfrm>
                    <a:off x="8381880" y="1248120"/>
                    <a:ext cx="0" cy="193428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Line 59"/>
                  <p:cNvSpPr/>
                  <p:nvPr/>
                </p:nvSpPr>
                <p:spPr>
                  <a:xfrm>
                    <a:off x="1143000" y="320004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4" name="Text Box 60"/>
          <p:cNvSpPr/>
          <p:nvPr/>
        </p:nvSpPr>
        <p:spPr>
          <a:xfrm>
            <a:off x="1143000" y="3505320"/>
            <a:ext cx="754380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Times New Roman"/>
              </a:rPr>
              <a:t>مهم وعاجل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مهم وغير عاج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99ff"/>
                </a:solidFill>
                <a:latin typeface="Times New Roman"/>
              </a:rPr>
              <a:t>غير مهم و عاج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2b2b2"/>
                </a:solidFill>
                <a:latin typeface="Times New Roman"/>
              </a:rPr>
              <a:t>غير مهم و غير عاج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61"/>
          <p:cNvSpPr/>
          <p:nvPr/>
        </p:nvSpPr>
        <p:spPr>
          <a:xfrm>
            <a:off x="3886200" y="350532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2"/>
          <p:cNvSpPr/>
          <p:nvPr/>
        </p:nvSpPr>
        <p:spPr>
          <a:xfrm>
            <a:off x="3886200" y="411480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3"/>
          <p:cNvSpPr/>
          <p:nvPr/>
        </p:nvSpPr>
        <p:spPr>
          <a:xfrm>
            <a:off x="3809880" y="47116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4"/>
          <p:cNvSpPr/>
          <p:nvPr/>
        </p:nvSpPr>
        <p:spPr>
          <a:xfrm>
            <a:off x="3733920" y="539748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5"/>
          <p:cNvSpPr/>
          <p:nvPr/>
        </p:nvSpPr>
        <p:spPr>
          <a:xfrm>
            <a:off x="0" y="3048120"/>
            <a:ext cx="350532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Times New Roman"/>
              </a:rPr>
              <a:t>أؤديه ب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أؤديه بنفسي أو أفو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66ff"/>
                </a:solidFill>
                <a:latin typeface="Times New Roman"/>
              </a:rPr>
              <a:t> أفو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2b2b2"/>
                </a:solidFill>
                <a:latin typeface="Times New Roman"/>
              </a:rPr>
              <a:t>  أترك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66"/>
          <p:cNvSpPr/>
          <p:nvPr/>
        </p:nvSpPr>
        <p:spPr>
          <a:xfrm>
            <a:off x="1371600" y="5867280"/>
            <a:ext cx="7315200" cy="8384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:عمل واحد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( أ )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أفضل من تسعة 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( د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67"/>
          <p:cNvSpPr txBox="1"/>
          <p:nvPr/>
        </p:nvSpPr>
        <p:spPr>
          <a:xfrm>
            <a:off x="7543800" y="6019920"/>
            <a:ext cx="106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تذكر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1026"/>
          <p:cNvSpPr/>
          <p:nvPr/>
        </p:nvSpPr>
        <p:spPr>
          <a:xfrm>
            <a:off x="3657600" y="1600200"/>
            <a:ext cx="2057400" cy="1295280"/>
          </a:xfrm>
          <a:prstGeom prst="octagon">
            <a:avLst>
              <a:gd name="adj" fmla="val 3356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المهم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WordArt 1027"/>
          <p:cNvSpPr txBox="1"/>
          <p:nvPr/>
        </p:nvSpPr>
        <p:spPr>
          <a:xfrm>
            <a:off x="762120" y="3733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64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تتمدد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4" name="WordArt 1028"/>
          <p:cNvSpPr txBox="1"/>
          <p:nvPr/>
        </p:nvSpPr>
        <p:spPr>
          <a:xfrm>
            <a:off x="685800" y="5781600"/>
            <a:ext cx="7772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لتشغل الوقت المتاح لها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55" name="Group 1029"/>
          <p:cNvGrpSpPr/>
          <p:nvPr/>
        </p:nvGrpSpPr>
        <p:grpSpPr>
          <a:xfrm>
            <a:off x="2971800" y="304920"/>
            <a:ext cx="3429000" cy="1066680"/>
            <a:chOff x="2971800" y="304920"/>
            <a:chExt cx="3429000" cy="1066680"/>
          </a:xfrm>
        </p:grpSpPr>
        <p:sp>
          <p:nvSpPr>
            <p:cNvPr id="356" name="AutoShape 1030"/>
            <p:cNvSpPr/>
            <p:nvPr/>
          </p:nvSpPr>
          <p:spPr>
            <a:xfrm>
              <a:off x="2971800" y="304920"/>
              <a:ext cx="3429000" cy="1066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WordArt 1031"/>
            <p:cNvSpPr txBox="1"/>
            <p:nvPr/>
          </p:nvSpPr>
          <p:spPr>
            <a:xfrm>
              <a:off x="3124080" y="380880"/>
              <a:ext cx="3200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0">
                    <a:noFill/>
                  </a:ln>
                  <a:solidFill>
                    <a:srgbClr val="990099"/>
                  </a:solidFill>
                  <a:effectLst>
                    <a:outerShdw dist="153753" dir="2700000" blurRad="0" rotWithShape="0">
                      <a:srgbClr val="3333cc">
                        <a:alpha val="50000"/>
                      </a:srgbClr>
                    </a:outerShdw>
                  </a:effectLst>
                  <a:latin typeface="Times New Roman"/>
                </a:rPr>
                <a:t>قانون باريكسون</a:t>
              </a:r>
              <a:endParaRPr b="1" lang="en-US" sz="20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3333cc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58" name="Oval 1033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762120" y="1749600"/>
            <a:ext cx="670536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سمح لك بوقت للتفكير والتخطيط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ساعدك على إنجاز المهام الأكثر أه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خلصك من المهام الروتينية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مكنك من الاستفادة من خبرات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قلل من وقت صُنع القرار  .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ُنمي مهارات الآخرين 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ُمكنك من إنجاز المهام بشكل متواز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اذا التفوي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63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64" name="AutoShape 8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WordArt 9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طريقك للنجاح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6" name="Group 16"/>
          <p:cNvGrpSpPr/>
          <p:nvPr/>
        </p:nvGrpSpPr>
        <p:grpSpPr>
          <a:xfrm>
            <a:off x="6629400" y="5181480"/>
            <a:ext cx="1295280" cy="1371600"/>
            <a:chOff x="6629400" y="5181480"/>
            <a:chExt cx="1295280" cy="1371600"/>
          </a:xfrm>
        </p:grpSpPr>
        <p:sp>
          <p:nvSpPr>
            <p:cNvPr id="367" name="Oval 7"/>
            <p:cNvSpPr/>
            <p:nvPr/>
          </p:nvSpPr>
          <p:spPr>
            <a:xfrm>
              <a:off x="6629400" y="5181480"/>
              <a:ext cx="129528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WordArt 10"/>
            <p:cNvSpPr txBox="1"/>
            <p:nvPr/>
          </p:nvSpPr>
          <p:spPr>
            <a:xfrm>
              <a:off x="6705720" y="5334120"/>
              <a:ext cx="10666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التفويض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5029200" y="5638680"/>
            <a:ext cx="1523880" cy="685800"/>
            <a:chOff x="5029200" y="5638680"/>
            <a:chExt cx="1523880" cy="685800"/>
          </a:xfrm>
        </p:grpSpPr>
        <p:sp>
          <p:nvSpPr>
            <p:cNvPr id="370" name="AutoShape 11"/>
            <p:cNvSpPr/>
            <p:nvPr/>
          </p:nvSpPr>
          <p:spPr>
            <a:xfrm>
              <a:off x="5029200" y="5638680"/>
              <a:ext cx="1523880" cy="685800"/>
            </a:xfrm>
            <a:prstGeom prst="leftArrow">
              <a:avLst>
                <a:gd name="adj1" fmla="val 50000"/>
                <a:gd name="adj2" fmla="val 555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4"/>
            <p:cNvSpPr/>
            <p:nvPr/>
          </p:nvSpPr>
          <p:spPr>
            <a:xfrm>
              <a:off x="5181480" y="6019920"/>
              <a:ext cx="129564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62120" y="1749600"/>
            <a:ext cx="6705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عدم الثقة بالآخر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ره المخاطر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خوف من الظهور بمظهر الكسول .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غلب العادة السيئة والقدوة السيئ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اذا لا نفو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76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77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طريقك للنجاح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5029200" y="5638680"/>
            <a:ext cx="1523880" cy="685800"/>
            <a:chOff x="5029200" y="5638680"/>
            <a:chExt cx="1523880" cy="685800"/>
          </a:xfrm>
        </p:grpSpPr>
        <p:sp>
          <p:nvSpPr>
            <p:cNvPr id="380" name="AutoShape 13"/>
            <p:cNvSpPr/>
            <p:nvPr/>
          </p:nvSpPr>
          <p:spPr>
            <a:xfrm>
              <a:off x="5029200" y="5638680"/>
              <a:ext cx="1523880" cy="685800"/>
            </a:xfrm>
            <a:prstGeom prst="leftArrow">
              <a:avLst>
                <a:gd name="adj1" fmla="val 50000"/>
                <a:gd name="adj2" fmla="val 555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>
              <a:off x="5181480" y="6019920"/>
              <a:ext cx="129564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16"/>
          <p:cNvGrpSpPr/>
          <p:nvPr/>
        </p:nvGrpSpPr>
        <p:grpSpPr>
          <a:xfrm>
            <a:off x="6629400" y="5181480"/>
            <a:ext cx="1295280" cy="1371600"/>
            <a:chOff x="6629400" y="5181480"/>
            <a:chExt cx="1295280" cy="1371600"/>
          </a:xfrm>
        </p:grpSpPr>
        <p:sp>
          <p:nvSpPr>
            <p:cNvPr id="383" name="Oval 17"/>
            <p:cNvSpPr/>
            <p:nvPr/>
          </p:nvSpPr>
          <p:spPr>
            <a:xfrm>
              <a:off x="6629400" y="5181480"/>
              <a:ext cx="129528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WordArt 18"/>
            <p:cNvSpPr txBox="1"/>
            <p:nvPr/>
          </p:nvSpPr>
          <p:spPr>
            <a:xfrm>
              <a:off x="6705720" y="5334120"/>
              <a:ext cx="10666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التفويض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0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762120" y="1749600"/>
            <a:ext cx="670536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</a:t>
            </a:r>
            <a:r>
              <a:rPr b="1" lang="ar-SA" sz="4000" spc="-1" strike="noStrike">
                <a:solidFill>
                  <a:srgbClr val="800000"/>
                </a:solidFill>
                <a:latin typeface="Times New Roman (Arabic)"/>
                <a:cs typeface="AL-Mohanad"/>
              </a:rPr>
              <a:t>يجب أن تتأكد أن الشخص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 (Arabic)"/>
                <a:ea typeface="AL-Mohanad"/>
              </a:rPr>
              <a:t>   الذي تفوضه يملك أمرين هامين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قدرة و المهارة للقيام بالمهم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رغبة والحماسة الكافية لدفع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  إلى إنجاز المهمة على أفضل وجه .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ن نفو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0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762120" y="1749600"/>
            <a:ext cx="6705360" cy="65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قدر ما تستطيع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المهام ذات الأولوية ( ج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الشخص الكفء المتحمس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ناقش المهمة جيداً مع من تفوض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ابع من فوضته دائماً .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قدم له يد العون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افئه على نجاح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التفويض الفعال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6705720" y="5181480"/>
            <a:ext cx="1218960" cy="13716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11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95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المسئوليةلا تفوض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97" name="WordArt 9"/>
          <p:cNvSpPr txBox="1"/>
          <p:nvPr/>
        </p:nvSpPr>
        <p:spPr>
          <a:xfrm>
            <a:off x="6934320" y="5334120"/>
            <a:ext cx="75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تذكر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دائماً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8" name="AutoShape 10"/>
          <p:cNvSpPr/>
          <p:nvPr/>
        </p:nvSpPr>
        <p:spPr>
          <a:xfrm>
            <a:off x="5105520" y="5638680"/>
            <a:ext cx="1523880" cy="685800"/>
          </a:xfrm>
          <a:prstGeom prst="leftArrow">
            <a:avLst>
              <a:gd name="adj1" fmla="val 50000"/>
              <a:gd name="adj2" fmla="val 5555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0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2"/>
          <p:cNvGrpSpPr/>
          <p:nvPr/>
        </p:nvGrpSpPr>
        <p:grpSpPr>
          <a:xfrm>
            <a:off x="359640" y="654120"/>
            <a:ext cx="8499960" cy="5930280"/>
            <a:chOff x="359640" y="654120"/>
            <a:chExt cx="8499960" cy="5930280"/>
          </a:xfrm>
        </p:grpSpPr>
        <p:sp>
          <p:nvSpPr>
            <p:cNvPr id="67" name="AutoShape 11"/>
            <p:cNvSpPr/>
            <p:nvPr/>
          </p:nvSpPr>
          <p:spPr>
            <a:xfrm rot="10827000">
              <a:off x="381960" y="686520"/>
              <a:ext cx="8380440" cy="5789880"/>
            </a:xfrm>
            <a:prstGeom prst="flowChartDocument">
              <a:avLst/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"/>
            <p:cNvSpPr/>
            <p:nvPr/>
          </p:nvSpPr>
          <p:spPr>
            <a:xfrm rot="10827000">
              <a:off x="456480" y="761760"/>
              <a:ext cx="8380440" cy="5789520"/>
            </a:xfrm>
            <a:prstGeom prst="flowChartDocument">
              <a:avLst/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5"/>
          <p:cNvSpPr/>
          <p:nvPr/>
        </p:nvSpPr>
        <p:spPr>
          <a:xfrm>
            <a:off x="3276720" y="1908000"/>
            <a:ext cx="61722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. شخصية ( ذاتية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                        ب . عامة ( بيئية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124080" y="1905120"/>
            <a:ext cx="5639040" cy="990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د ــ التعامل مع مضيعات 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0" y="3886200"/>
            <a:ext cx="38862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هـ ــ كيف تكسب 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457200" y="4114800"/>
            <a:ext cx="7848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. ما هي الرقاب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ب . صفات الرقابة الفعا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ج . مبدأ إعادة تحليل الوق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>
            <a:hlinkClick r:id="rId2" action="ppaction://hlinksldjump"/>
          </p:cNvPr>
          <p:cNvSpPr/>
          <p:nvPr/>
        </p:nvSpPr>
        <p:spPr>
          <a:xfrm>
            <a:off x="6705720" y="5105520"/>
            <a:ext cx="18288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متابع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295280" y="1749600"/>
            <a:ext cx="670572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جلس مع من تريد تفويضه : اشرح له المهمة جيداً ، تأكد أنه يفهم الهدف من المهمة ، وكيف ينفذ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خذ منه التزاماً بأنه سينتهي من المهمة بأفضل كفاءة ممكنة ، وفي الوقت المحد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ناقش معه حول الصعوبات المحتملة وطرق مواجهتها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بق على اتصال دائم مع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مكن أن تعده بمكافأة عند إنجاز المهمة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كيف نفوض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"/>
                            </p:stCondLst>
                            <p:childTnLst>
                              <p:par>
                                <p:cTn id="1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762120" y="1749600"/>
            <a:ext cx="670536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ُسلح من فوضته بسلط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كون السلطة مكافئة للمه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مراقبة من فوضته ومتابعته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وجد عندما توجد مشك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يجب أن تعترف بالنجاح في المهمة المفوض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قدم له يد العون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افئه على نجاح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ماذا بعد التفويض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408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من فوضته على نجاحه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10" name="Group 11"/>
          <p:cNvGrpSpPr/>
          <p:nvPr/>
        </p:nvGrpSpPr>
        <p:grpSpPr>
          <a:xfrm>
            <a:off x="6705720" y="5181480"/>
            <a:ext cx="1218960" cy="1371600"/>
            <a:chOff x="6705720" y="5181480"/>
            <a:chExt cx="1218960" cy="1371600"/>
          </a:xfrm>
        </p:grpSpPr>
        <p:sp>
          <p:nvSpPr>
            <p:cNvPr id="411" name="Oval 6"/>
            <p:cNvSpPr/>
            <p:nvPr/>
          </p:nvSpPr>
          <p:spPr>
            <a:xfrm>
              <a:off x="6705720" y="5181480"/>
              <a:ext cx="121896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WordArt 9"/>
            <p:cNvSpPr txBox="1"/>
            <p:nvPr/>
          </p:nvSpPr>
          <p:spPr>
            <a:xfrm>
              <a:off x="6934320" y="5334120"/>
              <a:ext cx="75240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كافئ 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13" name="AutoShape 10"/>
          <p:cNvSpPr/>
          <p:nvPr/>
        </p:nvSpPr>
        <p:spPr>
          <a:xfrm>
            <a:off x="5105520" y="5638680"/>
            <a:ext cx="1523880" cy="685800"/>
          </a:xfrm>
          <a:prstGeom prst="leftArrow">
            <a:avLst>
              <a:gd name="adj1" fmla="val 50000"/>
              <a:gd name="adj2" fmla="val 5555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14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500"/>
                            </p:stCondLst>
                            <p:childTnLst>
                              <p:par>
                                <p:cTn id="1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WordArt 5"/>
          <p:cNvSpPr txBox="1"/>
          <p:nvPr/>
        </p:nvSpPr>
        <p:spPr>
          <a:xfrm>
            <a:off x="297180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هامة لترتيب مكان العمل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219320" y="1519200"/>
            <a:ext cx="6400800" cy="77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حافظ على تنظيم جيد للحج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لا تضع على مكتبك إلا ما تقوم به الآن أو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 ما تحتاجه خلال اليو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حافظ على إضاءة جيدة فوق مكتب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تأكد من ترتيب الكتب بشكل جيد في مكتب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رتب أدواتك في مكان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سلة المهملات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تخلص فوراً من أي ش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ليس له أهمية ، ولن تحتاجه بعد ذلك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0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ject 102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027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028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WordArt 1029"/>
          <p:cNvSpPr txBox="1"/>
          <p:nvPr/>
        </p:nvSpPr>
        <p:spPr>
          <a:xfrm>
            <a:off x="297180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هامة لترتيب مكان العمل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25" name="Oval 1030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1"/>
          <p:cNvSpPr/>
          <p:nvPr/>
        </p:nvSpPr>
        <p:spPr>
          <a:xfrm>
            <a:off x="990720" y="1816200"/>
            <a:ext cx="6858000" cy="58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حتفظ بنظام جيد للملفات لحفظ المعلو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رتب الملفات حسب درجة الأه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أصنع ملفاً واحداً لكل مهم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لا تنس أن تمتلك ملفاً للأشياء الهامة جداً والعاجلة  .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ضعه دائماً أمام عينيك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أصنع ملفاً أخر للأشياء البسيطة 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( ج )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ضعه دائماً في الحقي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أعد فهرس بالملفات إذا زاد عددها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032"/>
          <p:cNvSpPr/>
          <p:nvPr/>
        </p:nvSpPr>
        <p:spPr>
          <a:xfrm>
            <a:off x="4800600" y="1371600"/>
            <a:ext cx="259092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تب خزانتك جيداً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0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6019920" y="380880"/>
            <a:ext cx="2590560" cy="1219320"/>
          </a:xfrm>
          <a:prstGeom prst="cloudCallout">
            <a:avLst>
              <a:gd name="adj1" fmla="val -7132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ذك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الواجبات دائماً أكثر من الأوق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أنت لا تملك أكثر من </a:t>
            </a: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24</a:t>
            </a: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ساعة يومي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ن المهام المفتوحة لا تنتهي أبد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6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676520" y="1752480"/>
            <a:ext cx="6247800" cy="4419720"/>
            <a:chOff x="1676520" y="1752480"/>
            <a:chExt cx="6247800" cy="4419720"/>
          </a:xfrm>
        </p:grpSpPr>
        <p:sp>
          <p:nvSpPr>
            <p:cNvPr id="434" name="AutoShape 3"/>
            <p:cNvSpPr/>
            <p:nvPr/>
          </p:nvSpPr>
          <p:spPr>
            <a:xfrm>
              <a:off x="1676520" y="1752480"/>
              <a:ext cx="6171840" cy="4343400"/>
            </a:xfrm>
            <a:custGeom>
              <a:avLst/>
              <a:gdLst>
                <a:gd name="textAreaLeft" fmla="*/ 1492920 w 6171840"/>
                <a:gd name="textAreaRight" fmla="*/ 4678920 w 617184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1752480" y="1828800"/>
              <a:ext cx="6171840" cy="4343400"/>
            </a:xfrm>
            <a:custGeom>
              <a:avLst/>
              <a:gdLst>
                <a:gd name="textAreaLeft" fmla="*/ 1492920 w 6171840"/>
                <a:gd name="textAreaRight" fmla="*/ 4678920 w 617184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نفيذ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رابع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038"/>
          <p:cNvGrpSpPr/>
          <p:nvPr/>
        </p:nvGrpSpPr>
        <p:grpSpPr>
          <a:xfrm>
            <a:off x="1371600" y="685800"/>
            <a:ext cx="6324480" cy="1219320"/>
            <a:chOff x="1371600" y="685800"/>
            <a:chExt cx="6324480" cy="1219320"/>
          </a:xfrm>
        </p:grpSpPr>
        <p:sp>
          <p:nvSpPr>
            <p:cNvPr id="438" name="AutoShape 1027"/>
            <p:cNvSpPr/>
            <p:nvPr/>
          </p:nvSpPr>
          <p:spPr>
            <a:xfrm>
              <a:off x="1371600" y="68580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utoShape 1028"/>
            <p:cNvSpPr/>
            <p:nvPr/>
          </p:nvSpPr>
          <p:spPr>
            <a:xfrm>
              <a:off x="1447920" y="76212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أولاً : نصائح عامة في التنفي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1040"/>
          <p:cNvGrpSpPr/>
          <p:nvPr/>
        </p:nvGrpSpPr>
        <p:grpSpPr>
          <a:xfrm>
            <a:off x="1371600" y="4267080"/>
            <a:ext cx="6324480" cy="1219320"/>
            <a:chOff x="1371600" y="4267080"/>
            <a:chExt cx="6324480" cy="1219320"/>
          </a:xfrm>
        </p:grpSpPr>
        <p:sp>
          <p:nvSpPr>
            <p:cNvPr id="441" name="AutoShape 1030"/>
            <p:cNvSpPr/>
            <p:nvPr/>
          </p:nvSpPr>
          <p:spPr>
            <a:xfrm>
              <a:off x="1371600" y="426708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utoShape 1031"/>
            <p:cNvSpPr/>
            <p:nvPr/>
          </p:nvSpPr>
          <p:spPr>
            <a:xfrm>
              <a:off x="1447920" y="434340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ثالثاً : تعامل جيداً مع مضيعات الوق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1039"/>
          <p:cNvGrpSpPr/>
          <p:nvPr/>
        </p:nvGrpSpPr>
        <p:grpSpPr>
          <a:xfrm>
            <a:off x="1371600" y="2514600"/>
            <a:ext cx="6324480" cy="1219320"/>
            <a:chOff x="1371600" y="2514600"/>
            <a:chExt cx="6324480" cy="1219320"/>
          </a:xfrm>
        </p:grpSpPr>
        <p:sp>
          <p:nvSpPr>
            <p:cNvPr id="444" name="AutoShape 1033"/>
            <p:cNvSpPr/>
            <p:nvPr/>
          </p:nvSpPr>
          <p:spPr>
            <a:xfrm>
              <a:off x="1371600" y="251460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AutoShape 1034"/>
            <p:cNvSpPr/>
            <p:nvPr/>
          </p:nvSpPr>
          <p:spPr>
            <a:xfrm>
              <a:off x="1447920" y="259092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ثانياً : احذر التسويف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Object 2048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50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990720" y="1447920"/>
            <a:ext cx="6705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ألق نظرة على قائمة أعمالك اليو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تزم بقائمة أعمالك اليومية وابتعد عن الروتينيات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أبدأ في إنجاز مهام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كن منجزاً ... لا تتردد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تعلم أن تق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لا تقطع عملك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  </a:t>
            </a:r>
            <a:r>
              <a:rPr b="1" lang="ar-SA" sz="32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إذا بدأت في إنجاز مهمة لا تقطع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وفر كل شئ قبل البدء في العمل</a:t>
            </a: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    </a:t>
            </a:r>
            <a:r>
              <a:rPr b="1" lang="ar-SA" sz="32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احذر الأفكار الطارئة</a:t>
            </a: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15"/>
          <p:cNvGrpSpPr/>
          <p:nvPr/>
        </p:nvGrpSpPr>
        <p:grpSpPr>
          <a:xfrm>
            <a:off x="3962520" y="3962520"/>
            <a:ext cx="990360" cy="609480"/>
            <a:chOff x="3962520" y="3962520"/>
            <a:chExt cx="990360" cy="609480"/>
          </a:xfrm>
        </p:grpSpPr>
        <p:sp>
          <p:nvSpPr>
            <p:cNvPr id="453" name="Oval 10"/>
            <p:cNvSpPr/>
            <p:nvPr/>
          </p:nvSpPr>
          <p:spPr>
            <a:xfrm>
              <a:off x="3962520" y="3962520"/>
              <a:ext cx="99036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WordArt 11"/>
            <p:cNvSpPr txBox="1"/>
            <p:nvPr/>
          </p:nvSpPr>
          <p:spPr>
            <a:xfrm>
              <a:off x="4191120" y="4038480"/>
              <a:ext cx="361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لا 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0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2048"/>
          <p:cNvGraphicFramePr/>
          <p:nvPr/>
        </p:nvGraphicFramePr>
        <p:xfrm>
          <a:off x="0" y="0"/>
          <a:ext cx="9144000" cy="72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295280" y="1600200"/>
            <a:ext cx="6705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تعامل جيداً مع المهام الكبي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إذا جابهتك مهمة كبيرة .. لا تنزعج .. تعامل معها جيد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64"/>
          <p:cNvGrpSpPr/>
          <p:nvPr/>
        </p:nvGrpSpPr>
        <p:grpSpPr>
          <a:xfrm>
            <a:off x="14400" y="3693600"/>
            <a:ext cx="2485440" cy="2671200"/>
            <a:chOff x="14400" y="3693600"/>
            <a:chExt cx="2485440" cy="2671200"/>
          </a:xfrm>
        </p:grpSpPr>
        <p:grpSp>
          <p:nvGrpSpPr>
            <p:cNvPr id="462" name="Group 63"/>
            <p:cNvGrpSpPr/>
            <p:nvPr/>
          </p:nvGrpSpPr>
          <p:grpSpPr>
            <a:xfrm>
              <a:off x="14400" y="3693600"/>
              <a:ext cx="2485440" cy="2671200"/>
              <a:chOff x="14400" y="3693600"/>
              <a:chExt cx="2485440" cy="2671200"/>
            </a:xfrm>
          </p:grpSpPr>
          <p:grpSp>
            <p:nvGrpSpPr>
              <p:cNvPr id="463" name="Group 60"/>
              <p:cNvGrpSpPr/>
              <p:nvPr/>
            </p:nvGrpSpPr>
            <p:grpSpPr>
              <a:xfrm>
                <a:off x="14400" y="3693600"/>
                <a:ext cx="2485440" cy="2671200"/>
                <a:chOff x="14400" y="3693600"/>
                <a:chExt cx="2485440" cy="2671200"/>
              </a:xfrm>
            </p:grpSpPr>
            <p:grpSp>
              <p:nvGrpSpPr>
                <p:cNvPr id="464" name="Group 59"/>
                <p:cNvGrpSpPr/>
                <p:nvPr/>
              </p:nvGrpSpPr>
              <p:grpSpPr>
                <a:xfrm>
                  <a:off x="14400" y="3693600"/>
                  <a:ext cx="2485440" cy="2671200"/>
                  <a:chOff x="14400" y="3693600"/>
                  <a:chExt cx="2485440" cy="2671200"/>
                </a:xfrm>
              </p:grpSpPr>
              <p:sp>
                <p:nvSpPr>
                  <p:cNvPr id="465" name="AutoShape 9"/>
                  <p:cNvSpPr/>
                  <p:nvPr/>
                </p:nvSpPr>
                <p:spPr>
                  <a:xfrm rot="6886800">
                    <a:off x="190440" y="4152960"/>
                    <a:ext cx="2133360" cy="175248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Oval 40"/>
                  <p:cNvSpPr/>
                  <p:nvPr/>
                </p:nvSpPr>
                <p:spPr>
                  <a:xfrm>
                    <a:off x="1333440" y="521928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Oval 41"/>
                  <p:cNvSpPr/>
                  <p:nvPr/>
                </p:nvSpPr>
                <p:spPr>
                  <a:xfrm>
                    <a:off x="1942920" y="4686120"/>
                    <a:ext cx="15228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Oval 42"/>
                  <p:cNvSpPr/>
                  <p:nvPr/>
                </p:nvSpPr>
                <p:spPr>
                  <a:xfrm>
                    <a:off x="723600" y="468612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Oval 43"/>
                  <p:cNvSpPr/>
                  <p:nvPr/>
                </p:nvSpPr>
                <p:spPr>
                  <a:xfrm>
                    <a:off x="495000" y="521928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Oval 44"/>
                  <p:cNvSpPr/>
                  <p:nvPr/>
                </p:nvSpPr>
                <p:spPr>
                  <a:xfrm>
                    <a:off x="952200" y="415260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Oval 45"/>
                  <p:cNvSpPr/>
                  <p:nvPr/>
                </p:nvSpPr>
                <p:spPr>
                  <a:xfrm>
                    <a:off x="723600" y="560052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Oval 48"/>
                  <p:cNvSpPr/>
                  <p:nvPr/>
                </p:nvSpPr>
                <p:spPr>
                  <a:xfrm>
                    <a:off x="1638000" y="491472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Oval 49"/>
                  <p:cNvSpPr/>
                  <p:nvPr/>
                </p:nvSpPr>
                <p:spPr>
                  <a:xfrm>
                    <a:off x="1866600" y="430488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Oval 52"/>
                  <p:cNvSpPr/>
                  <p:nvPr/>
                </p:nvSpPr>
                <p:spPr>
                  <a:xfrm>
                    <a:off x="952200" y="438120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Oval 55"/>
                  <p:cNvSpPr/>
                  <p:nvPr/>
                </p:nvSpPr>
                <p:spPr>
                  <a:xfrm>
                    <a:off x="1409400" y="422892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Oval 56"/>
                  <p:cNvSpPr/>
                  <p:nvPr/>
                </p:nvSpPr>
                <p:spPr>
                  <a:xfrm>
                    <a:off x="1028520" y="5371920"/>
                    <a:ext cx="15228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Oval 57"/>
                <p:cNvSpPr/>
                <p:nvPr/>
              </p:nvSpPr>
              <p:spPr>
                <a:xfrm>
                  <a:off x="1562040" y="45334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62"/>
              <p:cNvGrpSpPr/>
              <p:nvPr/>
            </p:nvGrpSpPr>
            <p:grpSpPr>
              <a:xfrm>
                <a:off x="761760" y="4457520"/>
                <a:ext cx="761760" cy="608760"/>
                <a:chOff x="761760" y="4457520"/>
                <a:chExt cx="761760" cy="608760"/>
              </a:xfrm>
            </p:grpSpPr>
            <p:grpSp>
              <p:nvGrpSpPr>
                <p:cNvPr id="479" name="Group 61"/>
                <p:cNvGrpSpPr/>
                <p:nvPr/>
              </p:nvGrpSpPr>
              <p:grpSpPr>
                <a:xfrm>
                  <a:off x="761760" y="4457520"/>
                  <a:ext cx="761760" cy="608760"/>
                  <a:chOff x="761760" y="4457520"/>
                  <a:chExt cx="761760" cy="608760"/>
                </a:xfrm>
              </p:grpSpPr>
              <p:sp>
                <p:nvSpPr>
                  <p:cNvPr id="480" name="Oval 46"/>
                  <p:cNvSpPr/>
                  <p:nvPr/>
                </p:nvSpPr>
                <p:spPr>
                  <a:xfrm>
                    <a:off x="1371240" y="445752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Oval 47"/>
                  <p:cNvSpPr/>
                  <p:nvPr/>
                </p:nvSpPr>
                <p:spPr>
                  <a:xfrm>
                    <a:off x="1066320" y="483804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Oval 50"/>
                  <p:cNvSpPr/>
                  <p:nvPr/>
                </p:nvSpPr>
                <p:spPr>
                  <a:xfrm>
                    <a:off x="761760" y="4914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Oval 53"/>
                <p:cNvSpPr/>
                <p:nvPr/>
              </p:nvSpPr>
              <p:spPr>
                <a:xfrm>
                  <a:off x="990360" y="460980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4" name="Oval 54"/>
            <p:cNvSpPr/>
            <p:nvPr/>
          </p:nvSpPr>
          <p:spPr>
            <a:xfrm>
              <a:off x="2209680" y="4495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51"/>
            <p:cNvSpPr/>
            <p:nvPr/>
          </p:nvSpPr>
          <p:spPr>
            <a:xfrm>
              <a:off x="380880" y="54100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65"/>
          <p:cNvSpPr/>
          <p:nvPr/>
        </p:nvSpPr>
        <p:spPr>
          <a:xfrm>
            <a:off x="1523880" y="34290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استخدم طريقة قطعة الجبن السويسري</a:t>
            </a:r>
            <a:r>
              <a:rPr b="0" lang="ar-SA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6"/>
          <p:cNvSpPr/>
          <p:nvPr/>
        </p:nvSpPr>
        <p:spPr>
          <a:xfrm>
            <a:off x="1905120" y="49528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هل تعلم لماذا توجد فراغات في الجبن السويسر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0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5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Object 1024"/>
          <p:cNvGraphicFramePr/>
          <p:nvPr/>
        </p:nvGraphicFramePr>
        <p:xfrm>
          <a:off x="0" y="0"/>
          <a:ext cx="9144000" cy="72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Oval 1027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WordArt 1028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92" name="Oval 1029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30"/>
          <p:cNvSpPr/>
          <p:nvPr/>
        </p:nvSpPr>
        <p:spPr>
          <a:xfrm>
            <a:off x="1447920" y="1511280"/>
            <a:ext cx="6705360" cy="81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أضف ليومك وقتاً جديداً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أبذل مزيداً من الجهد دوم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أستخدم الأوقات الضائعة وأجزاء الوقت الصغيرة { أوقات الانتظار، المواصلات ، الأوقات البينية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تعود أن تزيح حدود تعبك قليل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التزم بمواعيدك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(الزيارة بمواعيد سابق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انته من كل نشاط في موعد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 ثابر على تنظيم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وقتك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3"/>
          <p:cNvSpPr/>
          <p:nvPr/>
        </p:nvSpPr>
        <p:spPr>
          <a:xfrm>
            <a:off x="2666880" y="228600"/>
            <a:ext cx="441972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333cc"/>
                </a:solidFill>
                <a:latin typeface="Times New Roman"/>
              </a:rPr>
              <a:t>أهداف البرنام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920" y="2158920"/>
            <a:ext cx="8229600" cy="80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حسن التعرف على أهمية الوقت والحاجة لإدارته بكفاءة .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كيف تقيم استخدامك الحالي للوقت ؟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ما هي أساسيات إدارة الوقت ؟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التعرف على القواعد العامة لإدارة الوقت .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تخطيط الوقت وتنظيمه .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مهارات التفاوض الفعال .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533520" y="1828800"/>
            <a:ext cx="8153280" cy="4800600"/>
            <a:chOff x="533520" y="1828800"/>
            <a:chExt cx="8153280" cy="4800600"/>
          </a:xfrm>
        </p:grpSpPr>
        <p:sp>
          <p:nvSpPr>
            <p:cNvPr id="78" name="Rectangle 12"/>
            <p:cNvSpPr/>
            <p:nvPr/>
          </p:nvSpPr>
          <p:spPr>
            <a:xfrm>
              <a:off x="533520" y="182880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533520" y="198108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6019920" y="380880"/>
            <a:ext cx="2590560" cy="1219320"/>
          </a:xfrm>
          <a:prstGeom prst="cloudCallout">
            <a:avLst>
              <a:gd name="adj1" fmla="val -7132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ذك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لا شئ يغري بالانتهاء قدر الابت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Times New Roman"/>
              </a:rPr>
              <a:t>فتت المهام الصعبة و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ا شئ يغري بالنجاح قدر النجاح نفس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0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3"/>
          <p:cNvSpPr/>
          <p:nvPr/>
        </p:nvSpPr>
        <p:spPr>
          <a:xfrm>
            <a:off x="838080" y="1828800"/>
            <a:ext cx="2819520" cy="1600200"/>
          </a:xfrm>
          <a:prstGeom prst="flowChartPunchedCar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ونفذ ثان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6934320" y="1828800"/>
            <a:ext cx="1523880" cy="1295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</a:rPr>
              <a:t>ف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4419720" y="4876920"/>
            <a:ext cx="2590560" cy="1600200"/>
          </a:xfrm>
          <a:prstGeom prst="leftArrow">
            <a:avLst>
              <a:gd name="adj1" fmla="val 50000"/>
              <a:gd name="adj2" fmla="val 4047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ثان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6"/>
          <p:cNvSpPr/>
          <p:nvPr/>
        </p:nvSpPr>
        <p:spPr>
          <a:xfrm>
            <a:off x="7162920" y="5029200"/>
            <a:ext cx="1523880" cy="1295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ف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4343400" y="1600200"/>
            <a:ext cx="2514600" cy="1600200"/>
          </a:xfrm>
          <a:prstGeom prst="leftArrow">
            <a:avLst>
              <a:gd name="adj1" fmla="val 50000"/>
              <a:gd name="adj2" fmla="val 3928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س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990720" y="4876920"/>
            <a:ext cx="2819160" cy="1600200"/>
          </a:xfrm>
          <a:prstGeom prst="flowChartPunchedCard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وتنفذ س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9"/>
          <p:cNvGrpSpPr/>
          <p:nvPr/>
        </p:nvGrpSpPr>
        <p:grpSpPr>
          <a:xfrm>
            <a:off x="5029200" y="3276720"/>
            <a:ext cx="1676520" cy="685800"/>
            <a:chOff x="5029200" y="3276720"/>
            <a:chExt cx="1676520" cy="685800"/>
          </a:xfrm>
        </p:grpSpPr>
        <p:sp>
          <p:nvSpPr>
            <p:cNvPr id="505" name="AutoShape 10"/>
            <p:cNvSpPr/>
            <p:nvPr/>
          </p:nvSpPr>
          <p:spPr>
            <a:xfrm>
              <a:off x="5029200" y="3276720"/>
              <a:ext cx="1600200" cy="68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66"/>
                  </a:solidFill>
                  <a:latin typeface="Times New Roman"/>
                </a:rPr>
                <a:t>ولا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AutoShape 11"/>
            <p:cNvSpPr/>
            <p:nvPr/>
          </p:nvSpPr>
          <p:spPr>
            <a:xfrm>
              <a:off x="5105520" y="3276720"/>
              <a:ext cx="1600200" cy="68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66"/>
                  </a:solidFill>
                  <a:latin typeface="Times New Roman"/>
                </a:rPr>
                <a:t>ولا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6"/>
          <p:cNvGrpSpPr/>
          <p:nvPr/>
        </p:nvGrpSpPr>
        <p:grpSpPr>
          <a:xfrm>
            <a:off x="3048120" y="304920"/>
            <a:ext cx="3429000" cy="1066680"/>
            <a:chOff x="3048120" y="304920"/>
            <a:chExt cx="3429000" cy="1066680"/>
          </a:xfrm>
        </p:grpSpPr>
        <p:sp>
          <p:nvSpPr>
            <p:cNvPr id="508" name="AutoShape 14"/>
            <p:cNvSpPr/>
            <p:nvPr/>
          </p:nvSpPr>
          <p:spPr>
            <a:xfrm>
              <a:off x="3048120" y="304920"/>
              <a:ext cx="3429000" cy="1066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WordArt 15"/>
            <p:cNvSpPr txBox="1"/>
            <p:nvPr/>
          </p:nvSpPr>
          <p:spPr>
            <a:xfrm>
              <a:off x="3124080" y="380880"/>
              <a:ext cx="3200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0">
                    <a:noFill/>
                  </a:ln>
                  <a:solidFill>
                    <a:srgbClr val="990099"/>
                  </a:solidFill>
                  <a:effectLst>
                    <a:outerShdw dist="153753" dir="2700000" blurRad="0" rotWithShape="0">
                      <a:srgbClr val="3333cc">
                        <a:alpha val="50000"/>
                      </a:srgbClr>
                    </a:outerShdw>
                  </a:effectLst>
                  <a:latin typeface="Times New Roman"/>
                </a:rPr>
                <a:t>قواعد هامة في التنفيذ</a:t>
              </a:r>
              <a:endParaRPr b="1" lang="en-US" sz="20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3333cc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val 2"/>
          <p:cNvSpPr/>
          <p:nvPr/>
        </p:nvSpPr>
        <p:spPr>
          <a:xfrm>
            <a:off x="3733920" y="76320"/>
            <a:ext cx="1676160" cy="1295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66"/>
                </a:solidFill>
                <a:latin typeface="Times New Roman"/>
              </a:rPr>
              <a:t>تمري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219320" y="1523880"/>
            <a:ext cx="7696080" cy="1915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إذا توفر لديك ساعتان إضافيتان يومياً 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ففي أي من النشاطات الآتية سوف تنفقها ؟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4724280" y="30481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خطيط لعملك وحيات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343400" y="36576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قراءة وتنمية مهاراتك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724280" y="4267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حفظ القرآن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-228600" y="4983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دريب على العمل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191120" y="57452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قراءة الجرائد والمجل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-228600" y="5759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فكير و الإبداع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-152280" y="40687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كتابة رسائل شخص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-152280" y="3048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استماع إلى ال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3886200" y="48006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إنجاز بعض المهام البس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0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0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3"/>
          <p:cNvSpPr/>
          <p:nvPr/>
        </p:nvSpPr>
        <p:spPr>
          <a:xfrm>
            <a:off x="5486400" y="304920"/>
            <a:ext cx="2819520" cy="1295280"/>
          </a:xfrm>
          <a:prstGeom prst="flowChartPunched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الآن تعلم</a:t>
            </a:r>
            <a:r>
              <a:rPr b="0" lang="ar-SA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838080" y="1828800"/>
            <a:ext cx="7238880" cy="4572000"/>
            <a:chOff x="838080" y="1828800"/>
            <a:chExt cx="7238880" cy="4572000"/>
          </a:xfrm>
        </p:grpSpPr>
        <p:sp>
          <p:nvSpPr>
            <p:cNvPr id="523" name="AutoShape 4"/>
            <p:cNvSpPr/>
            <p:nvPr/>
          </p:nvSpPr>
          <p:spPr>
            <a:xfrm>
              <a:off x="838080" y="1828800"/>
              <a:ext cx="6781680" cy="396216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AutoShape 5"/>
            <p:cNvSpPr/>
            <p:nvPr/>
          </p:nvSpPr>
          <p:spPr>
            <a:xfrm>
              <a:off x="990360" y="1981080"/>
              <a:ext cx="6781680" cy="396252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6"/>
            <p:cNvSpPr/>
            <p:nvPr/>
          </p:nvSpPr>
          <p:spPr>
            <a:xfrm>
              <a:off x="1142640" y="2209680"/>
              <a:ext cx="6782040" cy="3962520"/>
            </a:xfrm>
            <a:prstGeom prst="flowChartPunchedCard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7"/>
            <p:cNvSpPr/>
            <p:nvPr/>
          </p:nvSpPr>
          <p:spPr>
            <a:xfrm>
              <a:off x="1295280" y="2438280"/>
              <a:ext cx="6781680" cy="396252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 ي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في أجزاء وقتك الصغيرة ....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Oval 10"/>
          <p:cNvSpPr/>
          <p:nvPr/>
        </p:nvSpPr>
        <p:spPr>
          <a:xfrm>
            <a:off x="8458200" y="64008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0" dur="indefinite" restart="never" nodeType="tmRoot">
          <p:childTnLst>
            <p:seq>
              <p:cTn id="1711" dur="indefinite" nodeType="mainSeq">
                <p:childTnLst>
                  <p:par>
                    <p:cTn id="1712" fill="hold">
                      <p:stCondLst>
                        <p:cond delay="0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"/>
          <p:cNvSpPr/>
          <p:nvPr/>
        </p:nvSpPr>
        <p:spPr>
          <a:xfrm>
            <a:off x="5410080" y="1219320"/>
            <a:ext cx="335304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ما هو التسويف؟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143000" y="22096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   التسويف هو أن تقوم بمهمة ذات أولوية منخفضة بدلاً من أن تنجز مهمتك ذات الأولوية  العال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419720" y="3429000"/>
            <a:ext cx="426708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لا يجب أن تسوف؟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4267080" y="44956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لأنه أكثر مضيعات الوقت خطو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4648320" y="5105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لأنه يُخرج خطتك عن مسار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2590920" y="609588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أنه محبوب .. رغم أنه .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4400" spc="-1" strike="noStrike">
                <a:solidFill>
                  <a:srgbClr val="cc3300"/>
                </a:solidFill>
                <a:latin typeface="Times New Roman"/>
              </a:rPr>
              <a:t>قاتل وخطي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5486400" y="5638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لأنه يجعل العمل يتراك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2" dur="indefinite" restart="never" nodeType="tmRoot">
          <p:childTnLst>
            <p:seq>
              <p:cTn id="1723" dur="indefinite" nodeType="mainSeq">
                <p:childTnLst>
                  <p:par>
                    <p:cTn id="1724" fill="hold">
                      <p:stCondLst>
                        <p:cond delay="0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9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5410080" y="1295280"/>
            <a:ext cx="335304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00"/>
                </a:solidFill>
                <a:latin typeface="Times New Roman"/>
              </a:rPr>
              <a:t>لماذا نسوف؟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315200" y="2286000"/>
            <a:ext cx="175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كسل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105520" y="28954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أعمال غير المحب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43400" y="35053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أعمال الصعبة و الكبي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4038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ت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572000" y="4724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خوف من المجه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2971800" y="5454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* انتظار الإبداع وساعة الصف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1523880" y="1523880"/>
            <a:ext cx="1828800" cy="1676520"/>
          </a:xfrm>
          <a:prstGeom prst="octagon">
            <a:avLst>
              <a:gd name="adj" fmla="val 3375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نتب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1"/>
          <p:cNvGrpSpPr/>
          <p:nvPr/>
        </p:nvGrpSpPr>
        <p:grpSpPr>
          <a:xfrm>
            <a:off x="152280" y="3581280"/>
            <a:ext cx="4038480" cy="2210040"/>
            <a:chOff x="152280" y="3581280"/>
            <a:chExt cx="4038480" cy="2210040"/>
          </a:xfrm>
        </p:grpSpPr>
        <p:sp>
          <p:nvSpPr>
            <p:cNvPr id="546" name="AutoShape 12"/>
            <p:cNvSpPr/>
            <p:nvPr/>
          </p:nvSpPr>
          <p:spPr>
            <a:xfrm>
              <a:off x="152280" y="3581280"/>
              <a:ext cx="3859200" cy="205740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لعلاج التسويف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هي ألا تدعها تبد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241920" y="3657600"/>
              <a:ext cx="3858840" cy="2057400"/>
            </a:xfrm>
            <a:prstGeom prst="flowChartPunchedCard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لعلاج التسويف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هي ألا تدعها تبد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14"/>
            <p:cNvSpPr/>
            <p:nvPr/>
          </p:nvSpPr>
          <p:spPr>
            <a:xfrm>
              <a:off x="331560" y="3733920"/>
              <a:ext cx="3859200" cy="205740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لعلاج مشكلة التسويف 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هي ألا تدعها تبدأ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2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29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28600" y="1371600"/>
            <a:ext cx="8610120" cy="5410080"/>
            <a:chOff x="228600" y="1371600"/>
            <a:chExt cx="8610120" cy="5410080"/>
          </a:xfrm>
        </p:grpSpPr>
        <p:sp>
          <p:nvSpPr>
            <p:cNvPr id="550" name="AutoShape 3"/>
            <p:cNvSpPr/>
            <p:nvPr/>
          </p:nvSpPr>
          <p:spPr>
            <a:xfrm>
              <a:off x="562680" y="16002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4"/>
            <p:cNvSpPr/>
            <p:nvPr/>
          </p:nvSpPr>
          <p:spPr>
            <a:xfrm>
              <a:off x="395640" y="152388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5"/>
            <p:cNvSpPr/>
            <p:nvPr/>
          </p:nvSpPr>
          <p:spPr>
            <a:xfrm>
              <a:off x="228600" y="13716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AutoShape 6"/>
          <p:cNvSpPr/>
          <p:nvPr/>
        </p:nvSpPr>
        <p:spPr>
          <a:xfrm>
            <a:off x="2666880" y="0"/>
            <a:ext cx="495324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0" y="1752480"/>
            <a:ext cx="754380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ضع وقتاً للانتهاء من كل مه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خذ على نفسك عهداً . ( لعدم التسويف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شجع نفسك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سأل نفسك عن مشكلات التأجي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جعل لنفسك حافز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3"/>
          <p:cNvGrpSpPr/>
          <p:nvPr/>
        </p:nvGrpSpPr>
        <p:grpSpPr>
          <a:xfrm>
            <a:off x="1295280" y="2057400"/>
            <a:ext cx="5333760" cy="2288160"/>
            <a:chOff x="1295280" y="2057400"/>
            <a:chExt cx="5333760" cy="2288160"/>
          </a:xfrm>
        </p:grpSpPr>
        <p:sp>
          <p:nvSpPr>
            <p:cNvPr id="556" name="Text Box 8"/>
            <p:cNvSpPr/>
            <p:nvPr/>
          </p:nvSpPr>
          <p:spPr>
            <a:xfrm>
              <a:off x="1295280" y="2468520"/>
              <a:ext cx="533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buClr>
                  <a:srgbClr val="3333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كتب موعد الانتهاء أمام كل عمل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Group 9"/>
            <p:cNvGrpSpPr/>
            <p:nvPr/>
          </p:nvGrpSpPr>
          <p:grpSpPr>
            <a:xfrm>
              <a:off x="2806200" y="2057400"/>
              <a:ext cx="3822480" cy="2288160"/>
              <a:chOff x="2806200" y="2057400"/>
              <a:chExt cx="3822480" cy="2288160"/>
            </a:xfrm>
          </p:grpSpPr>
          <p:sp>
            <p:nvSpPr>
              <p:cNvPr id="558" name="Text Box 10"/>
              <p:cNvSpPr/>
              <p:nvPr/>
            </p:nvSpPr>
            <p:spPr>
              <a:xfrm>
                <a:off x="2806200" y="205740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تأكد أن الموعد واقعي .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11"/>
              <p:cNvSpPr/>
              <p:nvPr/>
            </p:nvSpPr>
            <p:spPr>
              <a:xfrm>
                <a:off x="2895120" y="284940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اجعله أمامك دائماً 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12"/>
              <p:cNvSpPr/>
              <p:nvPr/>
            </p:nvSpPr>
            <p:spPr>
              <a:xfrm>
                <a:off x="2895120" y="327672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اجعل أحد غيرك يتابعك 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500"/>
                            </p:stCondLst>
                            <p:childTnLst>
                              <p:par>
                                <p:cTn id="1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228600" y="1371600"/>
            <a:ext cx="8610120" cy="5410080"/>
            <a:chOff x="228600" y="1371600"/>
            <a:chExt cx="8610120" cy="5410080"/>
          </a:xfrm>
        </p:grpSpPr>
        <p:sp>
          <p:nvSpPr>
            <p:cNvPr id="562" name="AutoShape 3"/>
            <p:cNvSpPr/>
            <p:nvPr/>
          </p:nvSpPr>
          <p:spPr>
            <a:xfrm>
              <a:off x="562680" y="16002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>
              <a:off x="395640" y="152388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228600" y="13716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Text Box 6"/>
          <p:cNvSpPr/>
          <p:nvPr/>
        </p:nvSpPr>
        <p:spPr>
          <a:xfrm>
            <a:off x="990720" y="1903320"/>
            <a:ext cx="754380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تعرف جيداً على مهام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45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تذكر حكمة الدقائق الخمس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بدأ في العمل .. الآ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304920" y="1447920"/>
            <a:ext cx="4338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هل هي ضرورية؟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هل لها وقت معين لنهايتها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الفائدة من إنجاز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هي خطوات إنجازها؟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ه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عقبات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وكيف تتغلب علي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2438280" y="0"/>
            <a:ext cx="495324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0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1143000" y="1514520"/>
            <a:ext cx="7467480" cy="5267160"/>
            <a:chOff x="1143000" y="1514520"/>
            <a:chExt cx="7467480" cy="5267160"/>
          </a:xfrm>
        </p:grpSpPr>
        <p:sp>
          <p:nvSpPr>
            <p:cNvPr id="569" name="AutoShape 3"/>
            <p:cNvSpPr/>
            <p:nvPr/>
          </p:nvSpPr>
          <p:spPr>
            <a:xfrm>
              <a:off x="1371600" y="175248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4"/>
            <p:cNvSpPr/>
            <p:nvPr/>
          </p:nvSpPr>
          <p:spPr>
            <a:xfrm>
              <a:off x="1295280" y="166680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5"/>
            <p:cNvSpPr/>
            <p:nvPr/>
          </p:nvSpPr>
          <p:spPr>
            <a:xfrm>
              <a:off x="1143000" y="151452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AutoShape 6"/>
          <p:cNvSpPr/>
          <p:nvPr/>
        </p:nvSpPr>
        <p:spPr>
          <a:xfrm>
            <a:off x="2666880" y="152280"/>
            <a:ext cx="480060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-1143000" y="1676520"/>
            <a:ext cx="876312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نجز المهام التي تؤجلها دائماً.. أول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لا تتردد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علم وقت اتخاذ القرا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نتظر نتائج مث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خف من الخطأ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قلق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لا تنتظر الإيحاء أو المزاج الملائ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واجه المهام غير المحبب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فتت المهام الصعبة والكبير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0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1026"/>
          <p:cNvSpPr/>
          <p:nvPr/>
        </p:nvSpPr>
        <p:spPr>
          <a:xfrm>
            <a:off x="6400800" y="1371600"/>
            <a:ext cx="2362320" cy="99072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027"/>
          <p:cNvSpPr/>
          <p:nvPr/>
        </p:nvSpPr>
        <p:spPr>
          <a:xfrm>
            <a:off x="5105520" y="3276720"/>
            <a:ext cx="4038480" cy="1447560"/>
          </a:xfrm>
          <a:prstGeom prst="leftArrow">
            <a:avLst>
              <a:gd name="adj1" fmla="val 50000"/>
              <a:gd name="adj2" fmla="val 6974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أن تعلم التسويف س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028"/>
          <p:cNvGrpSpPr/>
          <p:nvPr/>
        </p:nvGrpSpPr>
        <p:grpSpPr>
          <a:xfrm>
            <a:off x="457200" y="2362320"/>
            <a:ext cx="4648320" cy="3429000"/>
            <a:chOff x="457200" y="2362320"/>
            <a:chExt cx="4648320" cy="3429000"/>
          </a:xfrm>
        </p:grpSpPr>
        <p:sp>
          <p:nvSpPr>
            <p:cNvPr id="577" name="AutoShape 1029"/>
            <p:cNvSpPr/>
            <p:nvPr/>
          </p:nvSpPr>
          <p:spPr>
            <a:xfrm>
              <a:off x="609480" y="2514600"/>
              <a:ext cx="4496040" cy="327672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1030"/>
            <p:cNvSpPr/>
            <p:nvPr/>
          </p:nvSpPr>
          <p:spPr>
            <a:xfrm>
              <a:off x="533520" y="2438280"/>
              <a:ext cx="4495680" cy="327672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AutoShape 1031"/>
            <p:cNvSpPr/>
            <p:nvPr/>
          </p:nvSpPr>
          <p:spPr>
            <a:xfrm>
              <a:off x="457200" y="2362320"/>
              <a:ext cx="4495680" cy="3276360"/>
            </a:xfrm>
            <a:prstGeom prst="foldedCorner">
              <a:avLst>
                <a:gd name="adj" fmla="val 125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1032"/>
          <p:cNvSpPr/>
          <p:nvPr/>
        </p:nvSpPr>
        <p:spPr>
          <a:xfrm>
            <a:off x="609480" y="25146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* يجعلك إنساناً كسو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33"/>
          <p:cNvSpPr/>
          <p:nvPr/>
        </p:nvSpPr>
        <p:spPr>
          <a:xfrm>
            <a:off x="914400" y="3321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يضيع لك وقتك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034"/>
          <p:cNvSpPr/>
          <p:nvPr/>
        </p:nvSpPr>
        <p:spPr>
          <a:xfrm>
            <a:off x="914400" y="4083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imes New Roman"/>
              </a:rPr>
              <a:t>* يجعل عملك يتراك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35"/>
          <p:cNvSpPr/>
          <p:nvPr/>
        </p:nvSpPr>
        <p:spPr>
          <a:xfrm>
            <a:off x="609480" y="4844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</a:rPr>
              <a:t>* يجعلك إنسانا فاش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36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fill="hold">
                      <p:stCondLst>
                        <p:cond delay="0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4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1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2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8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0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3"/>
          <p:cNvSpPr/>
          <p:nvPr/>
        </p:nvSpPr>
        <p:spPr>
          <a:xfrm>
            <a:off x="2590920" y="228600"/>
            <a:ext cx="44193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333cc"/>
                </a:solidFill>
                <a:latin typeface="Times New Roman"/>
              </a:rPr>
              <a:t>أهداف البرنام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7200" y="1981080"/>
            <a:ext cx="82296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استخدام قائمة العمل اليو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التعامل مع المقاطعات والمفاجآ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9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ما هي أجزاء وقتك التي تتحكم بها والتي لا تتحكم ب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كيفية التعرف على مضيعات الوقت بأنواع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كيفية التعامل مع مضيعات الوق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التعامل والسيطرة على الإجهاد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9"/>
          <p:cNvGrpSpPr/>
          <p:nvPr/>
        </p:nvGrpSpPr>
        <p:grpSpPr>
          <a:xfrm>
            <a:off x="533520" y="1828800"/>
            <a:ext cx="8153280" cy="4800600"/>
            <a:chOff x="533520" y="1828800"/>
            <a:chExt cx="8153280" cy="4800600"/>
          </a:xfrm>
        </p:grpSpPr>
        <p:sp>
          <p:nvSpPr>
            <p:cNvPr id="83" name="Rectangle 13"/>
            <p:cNvSpPr/>
            <p:nvPr/>
          </p:nvSpPr>
          <p:spPr>
            <a:xfrm>
              <a:off x="533520" y="182880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533520" y="1905120"/>
              <a:ext cx="8076960" cy="472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1028"/>
          <p:cNvSpPr/>
          <p:nvPr/>
        </p:nvSpPr>
        <p:spPr>
          <a:xfrm>
            <a:off x="6400800" y="1447920"/>
            <a:ext cx="2362320" cy="9903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029"/>
          <p:cNvSpPr/>
          <p:nvPr/>
        </p:nvSpPr>
        <p:spPr>
          <a:xfrm>
            <a:off x="5105520" y="3276720"/>
            <a:ext cx="4038480" cy="1447560"/>
          </a:xfrm>
          <a:prstGeom prst="leftArrow">
            <a:avLst>
              <a:gd name="adj1" fmla="val 50000"/>
              <a:gd name="adj2" fmla="val 6974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أن وقت اتخاذ القرار ه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35"/>
          <p:cNvGrpSpPr/>
          <p:nvPr/>
        </p:nvGrpSpPr>
        <p:grpSpPr>
          <a:xfrm>
            <a:off x="380880" y="2666880"/>
            <a:ext cx="4648320" cy="3979440"/>
            <a:chOff x="380880" y="2666880"/>
            <a:chExt cx="4648320" cy="3979440"/>
          </a:xfrm>
        </p:grpSpPr>
        <p:grpSp>
          <p:nvGrpSpPr>
            <p:cNvPr id="588" name="Group 1034"/>
            <p:cNvGrpSpPr/>
            <p:nvPr/>
          </p:nvGrpSpPr>
          <p:grpSpPr>
            <a:xfrm>
              <a:off x="380880" y="2666880"/>
              <a:ext cx="4648320" cy="2667240"/>
              <a:chOff x="380880" y="2666880"/>
              <a:chExt cx="4648320" cy="2667240"/>
            </a:xfrm>
          </p:grpSpPr>
          <p:sp>
            <p:nvSpPr>
              <p:cNvPr id="589" name="AutoShape 1026"/>
              <p:cNvSpPr/>
              <p:nvPr/>
            </p:nvSpPr>
            <p:spPr>
              <a:xfrm>
                <a:off x="533520" y="2819520"/>
                <a:ext cx="449568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AutoShape 1027"/>
              <p:cNvSpPr/>
              <p:nvPr/>
            </p:nvSpPr>
            <p:spPr>
              <a:xfrm>
                <a:off x="457200" y="2743200"/>
                <a:ext cx="449568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AutoShape 1030"/>
              <p:cNvSpPr/>
              <p:nvPr/>
            </p:nvSpPr>
            <p:spPr>
              <a:xfrm>
                <a:off x="380880" y="2666880"/>
                <a:ext cx="449604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1031"/>
            <p:cNvSpPr/>
            <p:nvPr/>
          </p:nvSpPr>
          <p:spPr>
            <a:xfrm>
              <a:off x="533520" y="2895480"/>
              <a:ext cx="419076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تلك اللحظة التي لا تؤثر بعدها المعلومات الجديدة كثيراً في اتخاذ القرار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AutoShape 1032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1033"/>
          <p:cNvSpPr/>
          <p:nvPr/>
        </p:nvSpPr>
        <p:spPr>
          <a:xfrm>
            <a:off x="8458200" y="64008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6" dur="indefinite" restart="never" nodeType="tmRoot">
          <p:childTnLst>
            <p:seq>
              <p:cTn id="1967" dur="indefinite" nodeType="mainSeq">
                <p:childTnLst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1600200" y="1371600"/>
            <a:ext cx="6248520" cy="4419720"/>
            <a:chOff x="1600200" y="1371600"/>
            <a:chExt cx="6248520" cy="4419720"/>
          </a:xfrm>
        </p:grpSpPr>
        <p:sp>
          <p:nvSpPr>
            <p:cNvPr id="596" name="AutoShape 3"/>
            <p:cNvSpPr/>
            <p:nvPr/>
          </p:nvSpPr>
          <p:spPr>
            <a:xfrm>
              <a:off x="1600200" y="13716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1676520" y="144792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000099"/>
                  </a:solidFill>
                  <a:latin typeface="Times New Roman"/>
                </a:rPr>
                <a:t>التعامل مع</a:t>
              </a:r>
              <a:r>
                <a:rPr b="1" lang="ar-SA" sz="6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000099"/>
                  </a:solidFill>
                  <a:latin typeface="Times New Roman"/>
                </a:rPr>
                <a:t>مضيعات الوقت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0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3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6477120" y="2133720"/>
            <a:ext cx="2666880" cy="167616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تخطيط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و التنظيم الدق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للوق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WordArt 8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AutoShape 12"/>
          <p:cNvSpPr/>
          <p:nvPr/>
        </p:nvSpPr>
        <p:spPr>
          <a:xfrm>
            <a:off x="3352680" y="2133720"/>
            <a:ext cx="2514600" cy="167616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التنفيذ السل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 للخ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13"/>
          <p:cNvSpPr/>
          <p:nvPr/>
        </p:nvSpPr>
        <p:spPr>
          <a:xfrm>
            <a:off x="152280" y="2133720"/>
            <a:ext cx="2514600" cy="167616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رف إيجا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جا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ضيعات الوق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5943600" y="2514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2743200" y="2514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20"/>
          <p:cNvGrpSpPr/>
          <p:nvPr/>
        </p:nvGrpSpPr>
        <p:grpSpPr>
          <a:xfrm>
            <a:off x="1371600" y="3809880"/>
            <a:ext cx="6324480" cy="533520"/>
            <a:chOff x="1371600" y="3809880"/>
            <a:chExt cx="6324480" cy="533520"/>
          </a:xfrm>
        </p:grpSpPr>
        <p:sp>
          <p:nvSpPr>
            <p:cNvPr id="606" name="Line 16"/>
            <p:cNvSpPr/>
            <p:nvPr/>
          </p:nvSpPr>
          <p:spPr>
            <a:xfrm>
              <a:off x="7696080" y="380988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7"/>
            <p:cNvSpPr/>
            <p:nvPr/>
          </p:nvSpPr>
          <p:spPr>
            <a:xfrm>
              <a:off x="1371600" y="380988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9"/>
            <p:cNvSpPr/>
            <p:nvPr/>
          </p:nvSpPr>
          <p:spPr>
            <a:xfrm>
              <a:off x="1371600" y="4343400"/>
              <a:ext cx="6324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21"/>
          <p:cNvSpPr/>
          <p:nvPr/>
        </p:nvSpPr>
        <p:spPr>
          <a:xfrm>
            <a:off x="3124080" y="5257800"/>
            <a:ext cx="2971800" cy="1447920"/>
          </a:xfrm>
          <a:prstGeom prst="roundRect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إدارة ناجح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وفعالة للوق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2"/>
          <p:cNvSpPr/>
          <p:nvPr/>
        </p:nvSpPr>
        <p:spPr>
          <a:xfrm>
            <a:off x="4572000" y="380988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4267080" y="3886200"/>
            <a:ext cx="6098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0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1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2" dur="8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4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8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3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6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0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2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3"/>
          <p:cNvSpPr/>
          <p:nvPr/>
        </p:nvSpPr>
        <p:spPr>
          <a:xfrm>
            <a:off x="2438280" y="2133720"/>
            <a:ext cx="5715000" cy="106668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9900"/>
                </a:solidFill>
                <a:latin typeface="Times New Roman"/>
              </a:rPr>
              <a:t>ما هي مضيعات الوقت ؟</a:t>
            </a:r>
            <a:r>
              <a:rPr b="1" lang="en-US" sz="48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WordArt 4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5" name="AutoShape 16"/>
          <p:cNvSpPr/>
          <p:nvPr/>
        </p:nvSpPr>
        <p:spPr>
          <a:xfrm>
            <a:off x="1676520" y="3581280"/>
            <a:ext cx="6858000" cy="106704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3300"/>
                </a:solidFill>
                <a:latin typeface="Times New Roman"/>
              </a:rPr>
              <a:t>كيف تتعامل مع مضيعات الوقت؟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7"/>
          <p:cNvSpPr/>
          <p:nvPr/>
        </p:nvSpPr>
        <p:spPr>
          <a:xfrm>
            <a:off x="762120" y="5105520"/>
            <a:ext cx="8381880" cy="106668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أن ننفذ ما خططنا له .. ونتغلب عليه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0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500"/>
                            </p:stCondLst>
                            <p:childTnLst>
                              <p:par>
                                <p:cTn id="20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1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9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026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027"/>
          <p:cNvSpPr/>
          <p:nvPr/>
        </p:nvSpPr>
        <p:spPr>
          <a:xfrm>
            <a:off x="3352680" y="1828800"/>
            <a:ext cx="5715000" cy="106668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ما هي مضيعات الوقت ؟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WordArt 1028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Text Box 1031"/>
          <p:cNvSpPr/>
          <p:nvPr/>
        </p:nvSpPr>
        <p:spPr>
          <a:xfrm>
            <a:off x="304920" y="3352680"/>
            <a:ext cx="883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032"/>
          <p:cNvSpPr/>
          <p:nvPr/>
        </p:nvSpPr>
        <p:spPr>
          <a:xfrm>
            <a:off x="-76320" y="3276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هي العوامل التي تحول دون أداء الأعمال الهامة ذات القيمة الع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34"/>
          <p:cNvSpPr/>
          <p:nvPr/>
        </p:nvSpPr>
        <p:spPr>
          <a:xfrm>
            <a:off x="-76320" y="444816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</a:rPr>
              <a:t>هي الأعمال التي تستهلك كمية كبيرة من الوقت لا تتناسب مع القيمة الناتجة عن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35"/>
          <p:cNvSpPr/>
          <p:nvPr/>
        </p:nvSpPr>
        <p:spPr>
          <a:xfrm>
            <a:off x="-76320" y="559116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cc6600"/>
                </a:solidFill>
                <a:latin typeface="Times New Roman"/>
              </a:rPr>
              <a:t>هي الأعمال التي تشغلنا كثيراً ولكنها تساهم مساهمة محدودة في تحقيق أهداف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037"/>
          <p:cNvSpPr/>
          <p:nvPr/>
        </p:nvSpPr>
        <p:spPr>
          <a:xfrm flipV="1">
            <a:off x="8458200" y="655236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5" dur="indefinite" restart="never" nodeType="tmRoot">
          <p:childTnLst>
            <p:seq>
              <p:cTn id="2106" dur="indefinite" nodeType="mainSeq">
                <p:childTnLst>
                  <p:par>
                    <p:cTn id="2107" fill="hold">
                      <p:stCondLst>
                        <p:cond delay="0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0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4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962520" y="5486400"/>
            <a:ext cx="8380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cc3300"/>
                </a:solidFill>
                <a:latin typeface="Times New Roman"/>
              </a:rPr>
              <a:t>ل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027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28"/>
          <p:cNvSpPr/>
          <p:nvPr/>
        </p:nvSpPr>
        <p:spPr>
          <a:xfrm>
            <a:off x="5105520" y="2209680"/>
            <a:ext cx="3886200" cy="99072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شخصية ( ذاتية 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029"/>
          <p:cNvSpPr/>
          <p:nvPr/>
        </p:nvSpPr>
        <p:spPr>
          <a:xfrm>
            <a:off x="2057400" y="175248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030"/>
          <p:cNvSpPr/>
          <p:nvPr/>
        </p:nvSpPr>
        <p:spPr>
          <a:xfrm>
            <a:off x="2057400" y="17524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031"/>
          <p:cNvSpPr/>
          <p:nvPr/>
        </p:nvSpPr>
        <p:spPr>
          <a:xfrm>
            <a:off x="7162920" y="17524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WordArt 1032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2" name="Text Box 1033"/>
          <p:cNvSpPr/>
          <p:nvPr/>
        </p:nvSpPr>
        <p:spPr>
          <a:xfrm>
            <a:off x="3429000" y="3505320"/>
            <a:ext cx="54100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عدم النظ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التأج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666633"/>
                </a:solidFill>
                <a:latin typeface="Times New Roman"/>
              </a:rPr>
              <a:t>البحث عن الكمال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ا يستطيع أن يقو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34"/>
          <p:cNvSpPr/>
          <p:nvPr/>
        </p:nvSpPr>
        <p:spPr>
          <a:xfrm>
            <a:off x="-76320" y="3200400"/>
            <a:ext cx="327672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 الزو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 التليفو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الانتظ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6633"/>
                </a:solidFill>
                <a:latin typeface="Times New Roman"/>
              </a:rPr>
              <a:t> الاجتماعات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الطوار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035"/>
          <p:cNvSpPr/>
          <p:nvPr/>
        </p:nvSpPr>
        <p:spPr>
          <a:xfrm>
            <a:off x="304920" y="2209680"/>
            <a:ext cx="3886200" cy="99072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عامة ( بيئية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9" dur="indefinite" restart="never" nodeType="tmRoot">
          <p:childTnLst>
            <p:seq>
              <p:cTn id="2150" dur="indefinite" nodeType="mainSeq">
                <p:childTnLst>
                  <p:par>
                    <p:cTn id="2151" fill="hold">
                      <p:stCondLst>
                        <p:cond delay="0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7" fill="hold">
                            <p:stCondLst>
                              <p:cond delay="500"/>
                            </p:stCondLst>
                            <p:childTnLst>
                              <p:par>
                                <p:cTn id="2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1026"/>
          <p:cNvSpPr/>
          <p:nvPr/>
        </p:nvSpPr>
        <p:spPr>
          <a:xfrm>
            <a:off x="1600200" y="152280"/>
            <a:ext cx="6629400" cy="1371600"/>
          </a:xfrm>
          <a:custGeom>
            <a:avLst/>
            <a:gdLst>
              <a:gd name="textAreaLeft" fmla="*/ 1602000 w 6629400"/>
              <a:gd name="textAreaRight" fmla="*/ 5027400 w 6629400"/>
              <a:gd name="textAreaTop" fmla="*/ 331560 h 1371600"/>
              <a:gd name="textAreaBottom" fmla="*/ 1040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939" y="11488"/>
                </a:lnTo>
                <a:lnTo>
                  <a:pt x="198" y="12861"/>
                </a:lnTo>
                <a:lnTo>
                  <a:pt x="3215" y="12975"/>
                </a:lnTo>
                <a:lnTo>
                  <a:pt x="786" y="14846"/>
                </a:lnTo>
                <a:lnTo>
                  <a:pt x="3833" y="14505"/>
                </a:lnTo>
                <a:lnTo>
                  <a:pt x="1742" y="16682"/>
                </a:lnTo>
                <a:lnTo>
                  <a:pt x="4668" y="15766"/>
                </a:lnTo>
                <a:lnTo>
                  <a:pt x="3163" y="18437"/>
                </a:lnTo>
                <a:lnTo>
                  <a:pt x="5728" y="16845"/>
                </a:lnTo>
                <a:lnTo>
                  <a:pt x="4761" y="19754"/>
                </a:lnTo>
                <a:lnTo>
                  <a:pt x="6974" y="17702"/>
                </a:lnTo>
                <a:lnTo>
                  <a:pt x="6580" y="20741"/>
                </a:lnTo>
                <a:lnTo>
                  <a:pt x="8493" y="18346"/>
                </a:lnTo>
                <a:lnTo>
                  <a:pt x="8555" y="21364"/>
                </a:lnTo>
                <a:lnTo>
                  <a:pt x="9975" y="18648"/>
                </a:lnTo>
                <a:lnTo>
                  <a:pt x="10800" y="21600"/>
                </a:lnTo>
                <a:lnTo>
                  <a:pt x="11488" y="18661"/>
                </a:lnTo>
                <a:lnTo>
                  <a:pt x="12861" y="21402"/>
                </a:lnTo>
                <a:lnTo>
                  <a:pt x="12975" y="18385"/>
                </a:lnTo>
                <a:lnTo>
                  <a:pt x="14846" y="20814"/>
                </a:lnTo>
                <a:lnTo>
                  <a:pt x="14505" y="17767"/>
                </a:lnTo>
                <a:lnTo>
                  <a:pt x="16682" y="19858"/>
                </a:lnTo>
                <a:lnTo>
                  <a:pt x="15766" y="16932"/>
                </a:lnTo>
                <a:lnTo>
                  <a:pt x="18437" y="18437"/>
                </a:lnTo>
                <a:lnTo>
                  <a:pt x="16845" y="15872"/>
                </a:lnTo>
                <a:lnTo>
                  <a:pt x="19754" y="16839"/>
                </a:lnTo>
                <a:lnTo>
                  <a:pt x="17702" y="14626"/>
                </a:lnTo>
                <a:lnTo>
                  <a:pt x="20741" y="15020"/>
                </a:lnTo>
                <a:lnTo>
                  <a:pt x="18346" y="13107"/>
                </a:lnTo>
                <a:lnTo>
                  <a:pt x="21364" y="13045"/>
                </a:lnTo>
                <a:lnTo>
                  <a:pt x="18648" y="11625"/>
                </a:lnTo>
                <a:lnTo>
                  <a:pt x="21600" y="10800"/>
                </a:lnTo>
                <a:lnTo>
                  <a:pt x="18661" y="10112"/>
                </a:lnTo>
                <a:lnTo>
                  <a:pt x="21402" y="8739"/>
                </a:lnTo>
                <a:lnTo>
                  <a:pt x="18385" y="8625"/>
                </a:lnTo>
                <a:lnTo>
                  <a:pt x="20814" y="6754"/>
                </a:lnTo>
                <a:lnTo>
                  <a:pt x="17767" y="7095"/>
                </a:lnTo>
                <a:lnTo>
                  <a:pt x="19858" y="4918"/>
                </a:lnTo>
                <a:lnTo>
                  <a:pt x="16932" y="5834"/>
                </a:lnTo>
                <a:lnTo>
                  <a:pt x="18437" y="3163"/>
                </a:lnTo>
                <a:lnTo>
                  <a:pt x="15872" y="4755"/>
                </a:lnTo>
                <a:lnTo>
                  <a:pt x="16839" y="1846"/>
                </a:lnTo>
                <a:lnTo>
                  <a:pt x="14626" y="3898"/>
                </a:lnTo>
                <a:lnTo>
                  <a:pt x="15020" y="859"/>
                </a:lnTo>
                <a:lnTo>
                  <a:pt x="13107" y="3254"/>
                </a:lnTo>
                <a:lnTo>
                  <a:pt x="13045" y="236"/>
                </a:lnTo>
                <a:lnTo>
                  <a:pt x="11625" y="2952"/>
                </a:lnTo>
                <a:lnTo>
                  <a:pt x="10800" y="0"/>
                </a:lnTo>
                <a:lnTo>
                  <a:pt x="10112" y="2939"/>
                </a:lnTo>
                <a:lnTo>
                  <a:pt x="8739" y="198"/>
                </a:lnTo>
                <a:lnTo>
                  <a:pt x="8625" y="3215"/>
                </a:lnTo>
                <a:lnTo>
                  <a:pt x="6754" y="786"/>
                </a:lnTo>
                <a:lnTo>
                  <a:pt x="7095" y="3833"/>
                </a:lnTo>
                <a:lnTo>
                  <a:pt x="4918" y="1742"/>
                </a:lnTo>
                <a:lnTo>
                  <a:pt x="5834" y="4668"/>
                </a:lnTo>
                <a:lnTo>
                  <a:pt x="3163" y="3163"/>
                </a:lnTo>
                <a:lnTo>
                  <a:pt x="4755" y="5728"/>
                </a:lnTo>
                <a:lnTo>
                  <a:pt x="1846" y="4761"/>
                </a:lnTo>
                <a:lnTo>
                  <a:pt x="3898" y="6974"/>
                </a:lnTo>
                <a:lnTo>
                  <a:pt x="859" y="6580"/>
                </a:lnTo>
                <a:lnTo>
                  <a:pt x="3254" y="8493"/>
                </a:lnTo>
                <a:lnTo>
                  <a:pt x="236" y="8555"/>
                </a:lnTo>
                <a:lnTo>
                  <a:pt x="2952" y="997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سباب عدم إدارة الوقت جيد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030"/>
          <p:cNvGrpSpPr/>
          <p:nvPr/>
        </p:nvGrpSpPr>
        <p:grpSpPr>
          <a:xfrm>
            <a:off x="990360" y="1676520"/>
            <a:ext cx="7467120" cy="4952520"/>
            <a:chOff x="990360" y="1676520"/>
            <a:chExt cx="7467120" cy="4952520"/>
          </a:xfrm>
        </p:grpSpPr>
        <p:sp>
          <p:nvSpPr>
            <p:cNvPr id="637" name="AutoShape 1027"/>
            <p:cNvSpPr/>
            <p:nvPr/>
          </p:nvSpPr>
          <p:spPr>
            <a:xfrm rot="10800000">
              <a:off x="990360" y="1676160"/>
              <a:ext cx="7314840" cy="480024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كسل والميل للراحة والتسوي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ضبط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الدقة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كتابة الأهدا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تداخل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نظيم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تحديد الأولويات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التخطيط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مفاجئة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عامل مع الطوارئ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AutoShape 1028"/>
            <p:cNvSpPr/>
            <p:nvPr/>
          </p:nvSpPr>
          <p:spPr>
            <a:xfrm rot="10800000">
              <a:off x="1142640" y="1828440"/>
              <a:ext cx="7314840" cy="4800240"/>
            </a:xfrm>
            <a:prstGeom prst="flowChartDocumen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كسل والميل للراحة والتسوي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ضبط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الدقة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كتابة الأهدا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تداخل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نظيم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تحديد الأولويات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التخطيط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مفاجئة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عامل مع الطوارئ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fill="hold">
                      <p:stCondLst>
                        <p:cond delay="0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Object 1024"/>
          <p:cNvGraphicFramePr/>
          <p:nvPr/>
        </p:nvGraphicFramePr>
        <p:xfrm>
          <a:off x="-360" y="0"/>
          <a:ext cx="8915400" cy="723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0" y="0"/>
                    <a:ext cx="89154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Oval 3"/>
          <p:cNvSpPr/>
          <p:nvPr/>
        </p:nvSpPr>
        <p:spPr>
          <a:xfrm>
            <a:off x="2590920" y="76320"/>
            <a:ext cx="3352680" cy="1523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الاجتماعات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1523880" y="1600200"/>
            <a:ext cx="59436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من المضيعات الكبيرة للوقت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إن العديد من الاجتماعات هام جداً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إنه يوفر الوقت وينجز العمل المطلوب بكفاءة عالية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ولكن الكثير من الاجتماعات مضيع للوق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914400" y="457200"/>
            <a:ext cx="7391520" cy="2819520"/>
          </a:xfrm>
          <a:prstGeom prst="downArrowCallout">
            <a:avLst>
              <a:gd name="adj1" fmla="val 65545"/>
              <a:gd name="adj2" fmla="val 65539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WordArt 4"/>
          <p:cNvSpPr txBox="1"/>
          <p:nvPr/>
        </p:nvSpPr>
        <p:spPr>
          <a:xfrm>
            <a:off x="1295280" y="1143000"/>
            <a:ext cx="6553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ن تضيع الوقت في الاجتماعات يأتي من مصدرين أثنين :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6" name="Line 6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5105520" y="3657600"/>
            <a:ext cx="3886200" cy="12952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اجتم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 التي تدعو إليه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228600" y="3657600"/>
            <a:ext cx="3886200" cy="1447920"/>
          </a:xfrm>
          <a:prstGeom prst="roundRect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اجتم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تي تُدعى إل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205740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716292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47" dur="indefinite" restart="never" nodeType="tmRoot">
          <p:childTnLst>
            <p:seq>
              <p:cTn id="2248" dur="indefinite" nodeType="mainSeq">
                <p:childTnLst>
                  <p:par>
                    <p:cTn id="2249" fill="hold">
                      <p:stCondLst>
                        <p:cond delay="0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060"/>
          <p:cNvGrpSpPr/>
          <p:nvPr/>
        </p:nvGrpSpPr>
        <p:grpSpPr>
          <a:xfrm>
            <a:off x="1295280" y="3886200"/>
            <a:ext cx="6629400" cy="2819520"/>
            <a:chOff x="1295280" y="3886200"/>
            <a:chExt cx="6629400" cy="2819520"/>
          </a:xfrm>
        </p:grpSpPr>
        <p:sp>
          <p:nvSpPr>
            <p:cNvPr id="652" name="AutoShape 2058"/>
            <p:cNvSpPr/>
            <p:nvPr/>
          </p:nvSpPr>
          <p:spPr>
            <a:xfrm>
              <a:off x="1447920" y="4038480"/>
              <a:ext cx="6476760" cy="26672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AutoShape 2057"/>
            <p:cNvSpPr/>
            <p:nvPr/>
          </p:nvSpPr>
          <p:spPr>
            <a:xfrm>
              <a:off x="1295280" y="3886200"/>
              <a:ext cx="6477120" cy="26668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AutoShape 205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2053"/>
          <p:cNvSpPr/>
          <p:nvPr/>
        </p:nvSpPr>
        <p:spPr>
          <a:xfrm>
            <a:off x="6248520" y="144792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قبل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2055"/>
          <p:cNvSpPr/>
          <p:nvPr/>
        </p:nvSpPr>
        <p:spPr>
          <a:xfrm>
            <a:off x="2971800" y="2438280"/>
            <a:ext cx="3581280" cy="1295640"/>
          </a:xfrm>
          <a:prstGeom prst="downArrowCallout">
            <a:avLst>
              <a:gd name="adj1" fmla="val 69109"/>
              <a:gd name="adj2" fmla="val 69103"/>
              <a:gd name="adj3" fmla="val 1666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سل نفس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056"/>
          <p:cNvSpPr/>
          <p:nvPr/>
        </p:nvSpPr>
        <p:spPr>
          <a:xfrm>
            <a:off x="-533520" y="4057560"/>
            <a:ext cx="82296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هل هذا الاجتماع ضرور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هل هناك وسيلة أخرى لتحقيق الهد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هل يمكن استبدال الاجتماع بشىء أسهل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من الذي يجب أن يحضر الاجتماع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0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80880" y="1676520"/>
            <a:ext cx="8305920" cy="5029200"/>
          </a:xfrm>
          <a:prstGeom prst="flowChartPunchedCard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09680" y="1981080"/>
            <a:ext cx="5867640" cy="1312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-  الوقت أغلى ما يملك الإنسا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09680" y="2879640"/>
            <a:ext cx="58676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الوقت مورد محدو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209680" y="3733920"/>
            <a:ext cx="586764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- الوقت لا يمكن تعويض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209680" y="4708440"/>
            <a:ext cx="5867640" cy="703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- الوقت يمضي سري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209680" y="5622840"/>
            <a:ext cx="59436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استغلال الوقت يزيد من قيمت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3276720" y="76320"/>
            <a:ext cx="4038480" cy="1860840"/>
            <a:chOff x="3276720" y="76320"/>
            <a:chExt cx="4038480" cy="1860840"/>
          </a:xfrm>
        </p:grpSpPr>
        <p:sp>
          <p:nvSpPr>
            <p:cNvPr id="92" name="AutoShape 9"/>
            <p:cNvSpPr/>
            <p:nvPr/>
          </p:nvSpPr>
          <p:spPr>
            <a:xfrm>
              <a:off x="3276720" y="76320"/>
              <a:ext cx="4038480" cy="1371600"/>
            </a:xfrm>
            <a:prstGeom prst="flowChartPunchedCard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3886200" y="380880"/>
              <a:ext cx="3048120" cy="15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000000"/>
                  </a:solidFill>
                  <a:latin typeface="Times New Roman"/>
                </a:rPr>
                <a:t>طبيعة الوقت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8"/>
          <p:cNvGrpSpPr/>
          <p:nvPr/>
        </p:nvGrpSpPr>
        <p:grpSpPr>
          <a:xfrm>
            <a:off x="1447920" y="2590920"/>
            <a:ext cx="7162200" cy="4190760"/>
            <a:chOff x="1447920" y="2590920"/>
            <a:chExt cx="7162200" cy="4190760"/>
          </a:xfrm>
        </p:grpSpPr>
        <p:sp>
          <p:nvSpPr>
            <p:cNvPr id="659" name="AutoShape 7"/>
            <p:cNvSpPr/>
            <p:nvPr/>
          </p:nvSpPr>
          <p:spPr>
            <a:xfrm>
              <a:off x="1599840" y="2743200"/>
              <a:ext cx="701028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cc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AutoShape 6"/>
            <p:cNvSpPr/>
            <p:nvPr/>
          </p:nvSpPr>
          <p:spPr>
            <a:xfrm>
              <a:off x="1447920" y="2590920"/>
              <a:ext cx="700992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cc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قبل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76320" y="274320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حدد زمن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حدد مكان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أعد برنامج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أحرص على إيصال برنامج الاجتماع إلى المدعوين قبل الاجتماع بوقت كاف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3" dur="indefinite" restart="never" nodeType="tmRoot">
          <p:childTnLst>
            <p:seq>
              <p:cTn id="2314" dur="indefinite" nodeType="mainSeq">
                <p:childTnLst>
                  <p:par>
                    <p:cTn id="2315" fill="hold">
                      <p:stCondLst>
                        <p:cond delay="0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8"/>
          <p:cNvGrpSpPr/>
          <p:nvPr/>
        </p:nvGrpSpPr>
        <p:grpSpPr>
          <a:xfrm>
            <a:off x="609480" y="2743200"/>
            <a:ext cx="7924680" cy="3886200"/>
            <a:chOff x="609480" y="2743200"/>
            <a:chExt cx="7924680" cy="3886200"/>
          </a:xfrm>
        </p:grpSpPr>
        <p:sp>
          <p:nvSpPr>
            <p:cNvPr id="665" name="AutoShape 7"/>
            <p:cNvSpPr/>
            <p:nvPr/>
          </p:nvSpPr>
          <p:spPr>
            <a:xfrm>
              <a:off x="609480" y="2743200"/>
              <a:ext cx="7696080" cy="3657600"/>
            </a:xfrm>
            <a:prstGeom prst="flowChartPunchedCard">
              <a:avLst/>
            </a:prstGeom>
            <a:gradFill rotWithShape="0">
              <a:gsLst>
                <a:gs pos="0">
                  <a:srgbClr val="aaaad4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>
              <a:off x="838080" y="2971800"/>
              <a:ext cx="7696080" cy="3657600"/>
            </a:xfrm>
            <a:prstGeom prst="flowChartPunchedCard">
              <a:avLst/>
            </a:prstGeom>
            <a:gradFill rotWithShape="0">
              <a:gsLst>
                <a:gs pos="0">
                  <a:srgbClr val="aaaad4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AutoShape 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228600" y="3032280"/>
            <a:ext cx="82296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كن أول الحاضر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ابدأ الاجتماع في موعده .. تفقد الغائب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وزع البرنامج على الحاضرين ... و اشرح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التزم بالبرنامج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6" dur="indefinite" restart="never" nodeType="tmRoot">
          <p:childTnLst>
            <p:seq>
              <p:cTn id="2327" dur="indefinite" nodeType="mainSeq">
                <p:childTnLst>
                  <p:par>
                    <p:cTn id="2328" fill="hold">
                      <p:stCondLst>
                        <p:cond delay="0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3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8"/>
          <p:cNvGrpSpPr/>
          <p:nvPr/>
        </p:nvGrpSpPr>
        <p:grpSpPr>
          <a:xfrm>
            <a:off x="1066680" y="2590920"/>
            <a:ext cx="7696080" cy="4114800"/>
            <a:chOff x="1066680" y="2590920"/>
            <a:chExt cx="7696080" cy="4114800"/>
          </a:xfrm>
        </p:grpSpPr>
        <p:sp>
          <p:nvSpPr>
            <p:cNvPr id="671" name="AutoShape 6"/>
            <p:cNvSpPr/>
            <p:nvPr/>
          </p:nvSpPr>
          <p:spPr>
            <a:xfrm>
              <a:off x="1066680" y="2590920"/>
              <a:ext cx="7467480" cy="3886200"/>
            </a:xfrm>
            <a:prstGeom prst="flowChartPunchedCar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5"/>
            <p:cNvSpPr/>
            <p:nvPr/>
          </p:nvSpPr>
          <p:spPr>
            <a:xfrm>
              <a:off x="1295280" y="2819520"/>
              <a:ext cx="7467480" cy="3886200"/>
            </a:xfrm>
            <a:prstGeom prst="flowChartPunchedCar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AutoShape 2"/>
          <p:cNvSpPr/>
          <p:nvPr/>
        </p:nvSpPr>
        <p:spPr>
          <a:xfrm>
            <a:off x="1447920" y="228600"/>
            <a:ext cx="5943600" cy="1066680"/>
          </a:xfrm>
          <a:custGeom>
            <a:avLst/>
            <a:gdLst>
              <a:gd name="textAreaLeft" fmla="*/ 742680 w 5943600"/>
              <a:gd name="textAreaRight" fmla="*/ 5200920 w 59436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533520" y="2819520"/>
            <a:ext cx="8229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تعامل مع المقاطع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أبق على النقاش في طريقه الصحيح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لخص من آن لأخر ما توصلتم إ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لا بد من وجود من يكتب محضر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6" dur="indefinite" restart="never" nodeType="tmRoot">
          <p:childTnLst>
            <p:seq>
              <p:cTn id="2347" dur="indefinite" nodeType="mainSeq">
                <p:childTnLst>
                  <p:par>
                    <p:cTn id="2348" fill="hold">
                      <p:stCondLst>
                        <p:cond delay="0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5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9"/>
          <p:cNvGrpSpPr/>
          <p:nvPr/>
        </p:nvGrpSpPr>
        <p:grpSpPr>
          <a:xfrm>
            <a:off x="380880" y="3886200"/>
            <a:ext cx="8458200" cy="2819520"/>
            <a:chOff x="380880" y="3886200"/>
            <a:chExt cx="8458200" cy="2819520"/>
          </a:xfrm>
        </p:grpSpPr>
        <p:sp>
          <p:nvSpPr>
            <p:cNvPr id="677" name="AutoShape 8"/>
            <p:cNvSpPr/>
            <p:nvPr/>
          </p:nvSpPr>
          <p:spPr>
            <a:xfrm>
              <a:off x="380880" y="3886200"/>
              <a:ext cx="8305560" cy="2667240"/>
            </a:xfrm>
            <a:prstGeom prst="flowChartPunchedCard">
              <a:avLst/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7"/>
            <p:cNvSpPr/>
            <p:nvPr/>
          </p:nvSpPr>
          <p:spPr>
            <a:xfrm>
              <a:off x="533160" y="4038840"/>
              <a:ext cx="8305920" cy="2666880"/>
            </a:xfrm>
            <a:prstGeom prst="flowChartPunchedCard">
              <a:avLst/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AutoShape 2"/>
          <p:cNvSpPr/>
          <p:nvPr/>
        </p:nvSpPr>
        <p:spPr>
          <a:xfrm>
            <a:off x="1447920" y="228600"/>
            <a:ext cx="5943600" cy="1066680"/>
          </a:xfrm>
          <a:custGeom>
            <a:avLst/>
            <a:gdLst>
              <a:gd name="textAreaLeft" fmla="*/ 742680 w 5943600"/>
              <a:gd name="textAreaRight" fmla="*/ 5200920 w 59436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 - 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1752480" y="1752480"/>
            <a:ext cx="4419720" cy="1905120"/>
          </a:xfrm>
          <a:custGeom>
            <a:avLst/>
            <a:gdLst>
              <a:gd name="textAreaLeft" fmla="*/ 1008720 w 4419720"/>
              <a:gd name="textAreaRight" fmla="*/ 3411000 w 441972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ي ختام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80880" y="4419720"/>
            <a:ext cx="87631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أعد قراءة ما توصلتم إليه لتتأكد من موافقة الجمي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حدد المهام ومواعيد المتابعة</a:t>
            </a:r>
            <a:r>
              <a:rPr b="0" lang="ar-S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أنه الاجتماع في موع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8" dur="indefinite" restart="never" nodeType="tmRoot">
          <p:childTnLst>
            <p:seq>
              <p:cTn id="2359" dur="indefinite" nodeType="mainSeq">
                <p:childTnLst>
                  <p:par>
                    <p:cTn id="2360" fill="hold">
                      <p:stCondLst>
                        <p:cond delay="0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9"/>
          <p:cNvGrpSpPr/>
          <p:nvPr/>
        </p:nvGrpSpPr>
        <p:grpSpPr>
          <a:xfrm>
            <a:off x="304920" y="3200400"/>
            <a:ext cx="8534160" cy="3276720"/>
            <a:chOff x="304920" y="3200400"/>
            <a:chExt cx="8534160" cy="3276720"/>
          </a:xfrm>
        </p:grpSpPr>
        <p:sp>
          <p:nvSpPr>
            <p:cNvPr id="684" name="AutoShape 7"/>
            <p:cNvSpPr/>
            <p:nvPr/>
          </p:nvSpPr>
          <p:spPr>
            <a:xfrm>
              <a:off x="304920" y="32004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AutoShape 6"/>
            <p:cNvSpPr/>
            <p:nvPr/>
          </p:nvSpPr>
          <p:spPr>
            <a:xfrm>
              <a:off x="457200" y="34290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AutoShape 8"/>
            <p:cNvSpPr/>
            <p:nvPr/>
          </p:nvSpPr>
          <p:spPr>
            <a:xfrm>
              <a:off x="685800" y="36576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AutoShape 2"/>
          <p:cNvSpPr/>
          <p:nvPr/>
        </p:nvSpPr>
        <p:spPr>
          <a:xfrm>
            <a:off x="1371600" y="228600"/>
            <a:ext cx="6019920" cy="1066680"/>
          </a:xfrm>
          <a:custGeom>
            <a:avLst/>
            <a:gdLst>
              <a:gd name="textAreaLeft" fmla="*/ 752400 w 6019920"/>
              <a:gd name="textAreaRight" fmla="*/ 5267520 w 60199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 - 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3"/>
          <p:cNvSpPr/>
          <p:nvPr/>
        </p:nvSpPr>
        <p:spPr>
          <a:xfrm>
            <a:off x="6095880" y="18288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عد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685800" y="388620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أوصل نتيجة الاجتماع إلى المشاركين سري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تابع تنفيذ المها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5" dur="indefinite" restart="never" nodeType="tmRoot">
          <p:childTnLst>
            <p:seq>
              <p:cTn id="2376" dur="indefinite" nodeType="mainSeq">
                <p:childTnLst>
                  <p:par>
                    <p:cTn id="2377" fill="hold">
                      <p:stCondLst>
                        <p:cond delay="0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500"/>
                            </p:stCondLst>
                            <p:childTnLst>
                              <p:par>
                                <p:cTn id="23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7"/>
          <p:cNvGrpSpPr/>
          <p:nvPr/>
        </p:nvGrpSpPr>
        <p:grpSpPr>
          <a:xfrm>
            <a:off x="228600" y="1523880"/>
            <a:ext cx="8762760" cy="5181480"/>
            <a:chOff x="228600" y="1523880"/>
            <a:chExt cx="8762760" cy="5181480"/>
          </a:xfrm>
        </p:grpSpPr>
        <p:sp>
          <p:nvSpPr>
            <p:cNvPr id="691" name="AutoShape 6"/>
            <p:cNvSpPr/>
            <p:nvPr/>
          </p:nvSpPr>
          <p:spPr>
            <a:xfrm>
              <a:off x="228600" y="1523880"/>
              <a:ext cx="8610480" cy="5029200"/>
            </a:xfrm>
            <a:prstGeom prst="flowChartPunchedCard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AutoShape 5"/>
            <p:cNvSpPr/>
            <p:nvPr/>
          </p:nvSpPr>
          <p:spPr>
            <a:xfrm>
              <a:off x="380880" y="1676160"/>
              <a:ext cx="8610480" cy="5029200"/>
            </a:xfrm>
            <a:prstGeom prst="flowChartPunchedCard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AutoShape 2"/>
          <p:cNvSpPr/>
          <p:nvPr/>
        </p:nvSpPr>
        <p:spPr>
          <a:xfrm>
            <a:off x="1143000" y="228600"/>
            <a:ext cx="6629400" cy="1066680"/>
          </a:xfrm>
          <a:custGeom>
            <a:avLst/>
            <a:gdLst>
              <a:gd name="textAreaLeft" fmla="*/ 828720 w 6629400"/>
              <a:gd name="textAreaRight" fmla="*/ 5801040 w 66294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ب - عندما تُدعى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-533520" y="1981080"/>
            <a:ext cx="9144000" cy="59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تأكد أنك من الضروري أن تحضر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حضر في الموعد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وكن جاهزاً  للمشاركة في النقاش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ا تحد بالنقاش عن مسا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كن فعالاً حتى تجعل اللقاء فعالاً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808080"/>
                </a:solidFill>
                <a:latin typeface="Times New Roman"/>
              </a:rPr>
              <a:t>افهم الهدف جيداً وساعد في الوصول إ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كتب قائمة بما يجب عليك القيام به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واضفها إلى قائمة أعمال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3" dur="indefinite" restart="never" nodeType="tmRoot">
          <p:childTnLst>
            <p:seq>
              <p:cTn id="2394" dur="indefinite" nodeType="mainSeq">
                <p:childTnLst>
                  <p:par>
                    <p:cTn id="2395" fill="hold">
                      <p:stCondLst>
                        <p:cond delay="0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500"/>
                            </p:stCondLst>
                            <p:childTnLst>
                              <p:par>
                                <p:cTn id="2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Oval 2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WordArt 3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كيف تكسب الوقت ؟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grpSp>
        <p:nvGrpSpPr>
          <p:cNvPr id="697" name="Group 4"/>
          <p:cNvGrpSpPr/>
          <p:nvPr/>
        </p:nvGrpSpPr>
        <p:grpSpPr>
          <a:xfrm>
            <a:off x="304920" y="1599840"/>
            <a:ext cx="8001000" cy="5181120"/>
            <a:chOff x="304920" y="1599840"/>
            <a:chExt cx="8001000" cy="5181120"/>
          </a:xfrm>
        </p:grpSpPr>
        <p:sp>
          <p:nvSpPr>
            <p:cNvPr id="698" name="AutoShape 5"/>
            <p:cNvSpPr/>
            <p:nvPr/>
          </p:nvSpPr>
          <p:spPr>
            <a:xfrm rot="16200000">
              <a:off x="1902240" y="226440"/>
              <a:ext cx="5030280" cy="7777080"/>
            </a:xfrm>
            <a:prstGeom prst="foldedCorner">
              <a:avLst>
                <a:gd name="adj" fmla="val 1357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تقليل من النوم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قراءة السريع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وقت الساقط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راحة القصير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راحة طعام الغذاء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مكافأة الذا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حسن التعامل مع الضغوط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ستشارة أهل الخبرة ــ الصمود ــ قسط من الراح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8 )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لاتصالا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9)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ستعمال التقنيات الحديث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   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(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لجوال ــ الفاكس ــ الأنترن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AutoShape 6"/>
            <p:cNvSpPr/>
            <p:nvPr/>
          </p:nvSpPr>
          <p:spPr>
            <a:xfrm rot="16200000">
              <a:off x="1678320" y="377280"/>
              <a:ext cx="5030280" cy="7777080"/>
            </a:xfrm>
            <a:prstGeom prst="foldedCorner">
              <a:avLst>
                <a:gd name="adj" fmla="val 1357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10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11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تقليل من النوم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قراءة السريع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وقت الساقط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راحة القصير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راحة طعام الغذاء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مكافأة الذات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حسن التعامل مع الضغوط :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  <a:cs typeface="Times New Roman"/>
                </a:rPr>
                <a:t>الصمود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   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استشارة أهل الخبرة ــ قسط من الراحة</a:t>
              </a:r>
              <a:r>
                <a:rPr b="1" lang="ar-SA" sz="36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8 )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الاتصالات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9)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استعمال التقنيات الحديث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       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(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الجوال ــ الفاكس ــ الأنترنت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7"/>
          <p:cNvSpPr/>
          <p:nvPr/>
        </p:nvSpPr>
        <p:spPr>
          <a:xfrm>
            <a:off x="8610480" y="66294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500"/>
                            </p:stCondLst>
                            <p:childTnLst>
                              <p:par>
                                <p:cTn id="2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1026"/>
          <p:cNvGrpSpPr/>
          <p:nvPr/>
        </p:nvGrpSpPr>
        <p:grpSpPr>
          <a:xfrm>
            <a:off x="1600200" y="1371600"/>
            <a:ext cx="6248520" cy="4419720"/>
            <a:chOff x="1600200" y="1371600"/>
            <a:chExt cx="6248520" cy="4419720"/>
          </a:xfrm>
        </p:grpSpPr>
        <p:sp>
          <p:nvSpPr>
            <p:cNvPr id="702" name="AutoShape 1027"/>
            <p:cNvSpPr/>
            <p:nvPr/>
          </p:nvSpPr>
          <p:spPr>
            <a:xfrm>
              <a:off x="1600200" y="13716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AutoShape 1028"/>
            <p:cNvSpPr/>
            <p:nvPr/>
          </p:nvSpPr>
          <p:spPr>
            <a:xfrm>
              <a:off x="1676520" y="144792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متابعة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3" dur="indefinite" restart="never" nodeType="tmRoot">
          <p:childTnLst>
            <p:seq>
              <p:cTn id="2424" dur="indefinite" nodeType="mainSeq">
                <p:childTnLst>
                  <p:par>
                    <p:cTn id="2425" fill="hold">
                      <p:stCondLst>
                        <p:cond delay="0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3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لمتابعة و الرقاب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"/>
          <p:cNvSpPr/>
          <p:nvPr/>
        </p:nvSpPr>
        <p:spPr>
          <a:xfrm>
            <a:off x="8001000" y="19051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0" y="16765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التخطيط بلا تنفيذ .......                               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</a:rPr>
              <a:t>ضرب من الآمال الحالمة وتضييع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7"/>
          <p:cNvSpPr/>
          <p:nvPr/>
        </p:nvSpPr>
        <p:spPr>
          <a:xfrm>
            <a:off x="8001000" y="32767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457200" y="31240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لتنفيذ بلا متابعة .......    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</a:rPr>
              <a:t>لا جدوى منه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7543800" y="457200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99"/>
                </a:solidFill>
                <a:latin typeface="Times New Roman"/>
              </a:rPr>
              <a:t>الرقاب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228600" y="4114800"/>
            <a:ext cx="72388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هي مقارنة ما سبق تخطيطه بما تم تنفيذه  و إنجازه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بهدف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الانحرافات والاستفادة من الإيجابيات وتجنب السلبيات ووضع مقترحات لعلاج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1" dur="indefinite" restart="never" nodeType="tmRoot">
          <p:childTnLst>
            <p:seq>
              <p:cTn id="2432" dur="indefinite" nodeType="mainSeq">
                <p:childTnLst>
                  <p:par>
                    <p:cTn id="2433" fill="hold">
                      <p:stCondLst>
                        <p:cond delay="0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fill="hold">
                      <p:stCondLst>
                        <p:cond delay="indefinite"/>
                      </p:stCondLst>
                      <p:childTnLst>
                        <p:par>
                          <p:cTn id="2461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2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صفات الرقابة الفعا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-152280" y="1973160"/>
            <a:ext cx="90676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فورية .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دورية و مستمر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اقتصادية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إصلاحية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رقابة مرن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8" dur="indefinite" restart="never" nodeType="tmRoot">
          <p:childTnLst>
            <p:seq>
              <p:cTn id="2479" dur="indefinite" nodeType="mainSeq">
                <p:childTnLst>
                  <p:par>
                    <p:cTn id="2480" fill="hold">
                      <p:stCondLst>
                        <p:cond delay="0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4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380880" y="1676520"/>
            <a:ext cx="8305920" cy="5029200"/>
          </a:xfrm>
          <a:prstGeom prst="flowChartPunchedCard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2422440"/>
            <a:ext cx="7620120" cy="2531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-  لتنفيذ المهام الهامة ثم يتبقى لنا وقت للإبداع والتخطيط للمستقبل والاستجمام أيض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3794040"/>
            <a:ext cx="807732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لتحديد الأولويات وإنجاز أهم الإعمال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4556160"/>
            <a:ext cx="807732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- للاستفادة من الوقت الضائع واستغلاله جيداً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5318280"/>
            <a:ext cx="8077320" cy="1312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- للتغلب على الإجهاد والإحباط الذي يقلل من كفاءة العمل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368440" y="76320"/>
            <a:ext cx="4946760" cy="1371600"/>
          </a:xfrm>
          <a:prstGeom prst="flowChartPunchedCar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895480" y="380880"/>
            <a:ext cx="40388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ماذا إدارة الوقت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1028"/>
          <p:cNvSpPr/>
          <p:nvPr/>
        </p:nvSpPr>
        <p:spPr>
          <a:xfrm>
            <a:off x="1143000" y="1752480"/>
            <a:ext cx="78487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buClr>
                <a:srgbClr val="ffffff"/>
              </a:buClr>
              <a:buFont typeface="AGA Arabesque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إن الرقابة في إدارة الوق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    تعني مبدأ واحداً ..... وخطيراً .. وهو 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1029"/>
          <p:cNvSpPr/>
          <p:nvPr/>
        </p:nvSpPr>
        <p:spPr>
          <a:xfrm>
            <a:off x="2209680" y="152280"/>
            <a:ext cx="5867640" cy="13716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مبدأ إعادة تحليل الوق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032"/>
          <p:cNvSpPr/>
          <p:nvPr/>
        </p:nvSpPr>
        <p:spPr>
          <a:xfrm>
            <a:off x="1066680" y="42670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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إن العادات القديمة السيئة ...تعود سريعاً 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033"/>
          <p:cNvSpPr/>
          <p:nvPr/>
        </p:nvSpPr>
        <p:spPr>
          <a:xfrm>
            <a:off x="-685800" y="5257800"/>
            <a:ext cx="98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ا بد من إعادة تحليل وقتك بعد  ” ثلاثة إلى ستة شهور”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ثم بعد ذلك لا بد من إعادة التحليل سنوياً على الأق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WordArt 1034"/>
          <p:cNvSpPr txBox="1"/>
          <p:nvPr/>
        </p:nvSpPr>
        <p:spPr>
          <a:xfrm>
            <a:off x="2286000" y="3243240"/>
            <a:ext cx="556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مبدأ إعادة تحليل الوقت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0" dur="indefinite" restart="never" nodeType="tmRoot">
          <p:childTnLst>
            <p:seq>
              <p:cTn id="2491" dur="indefinite" nodeType="mainSeq">
                <p:childTnLst>
                  <p:par>
                    <p:cTn id="2492" fill="hold">
                      <p:stCondLst>
                        <p:cond delay="0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9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5" dur="1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6" dur="4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4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AutoShape 1026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1027"/>
          <p:cNvSpPr/>
          <p:nvPr/>
        </p:nvSpPr>
        <p:spPr>
          <a:xfrm>
            <a:off x="8001000" y="2057400"/>
            <a:ext cx="8380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فر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028"/>
          <p:cNvSpPr/>
          <p:nvPr/>
        </p:nvSpPr>
        <p:spPr>
          <a:xfrm>
            <a:off x="0" y="2057400"/>
            <a:ext cx="7924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في نفسك قناعة كبيرة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نك يجب أن تدير وقتك بشكل صحيح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1029"/>
          <p:cNvSpPr/>
          <p:nvPr/>
        </p:nvSpPr>
        <p:spPr>
          <a:xfrm>
            <a:off x="8001000" y="35053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ق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1030"/>
          <p:cNvSpPr/>
          <p:nvPr/>
        </p:nvSpPr>
        <p:spPr>
          <a:xfrm>
            <a:off x="457200" y="3581280"/>
            <a:ext cx="7315200" cy="37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بتحليل وقتك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اجمع المعلوم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حلل استخدامك ل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تعرف على منحنى نشاطك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5" dur="indefinite" restart="never" nodeType="tmRoot">
          <p:childTnLst>
            <p:seq>
              <p:cTn id="2526" dur="indefinite" nodeType="mainSeq">
                <p:childTnLst>
                  <p:par>
                    <p:cTn id="2527" fill="hold">
                      <p:stCondLst>
                        <p:cond delay="0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1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2" fill="hold">
                      <p:stCondLst>
                        <p:cond delay="indefinite"/>
                      </p:stCondLst>
                      <p:childTnLst>
                        <p:par>
                          <p:cTn id="2533" fill="hold">
                            <p:stCondLst>
                              <p:cond delay="0"/>
                            </p:stCondLst>
                            <p:childTnLst>
                              <p:par>
                                <p:cTn id="2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3"/>
          <p:cNvSpPr/>
          <p:nvPr/>
        </p:nvSpPr>
        <p:spPr>
          <a:xfrm>
            <a:off x="7924680" y="1523880"/>
            <a:ext cx="12193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بدأ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-228600" y="1523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ي تخطيط وقتك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0" y="213192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ستطلع الواقع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على الفرص المتاحة والقيود المفروضة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على نقاط قوتك ونقاط ضعفك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جيداً من تحليل وقتك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ضع أهدافك وحدد أولوياتك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دد النشاطات وبرنامجها الزمني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2"/>
          <p:cNvSpPr/>
          <p:nvPr/>
        </p:nvSpPr>
        <p:spPr>
          <a:xfrm>
            <a:off x="6477120" y="3200400"/>
            <a:ext cx="990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تعر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6477120" y="4495680"/>
            <a:ext cx="9903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ستف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0" dur="indefinite" restart="never" nodeType="tmRoot">
          <p:childTnLst>
            <p:seq>
              <p:cTn id="2561" dur="indefinite" nodeType="mainSeq">
                <p:childTnLst>
                  <p:par>
                    <p:cTn id="2562" fill="hold">
                      <p:stCondLst>
                        <p:cond delay="0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7" fill="hold">
                            <p:stCondLst>
                              <p:cond delay="500"/>
                            </p:stCondLst>
                            <p:childTnLst>
                              <p:par>
                                <p:cTn id="2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10"/>
          <p:cNvSpPr/>
          <p:nvPr/>
        </p:nvSpPr>
        <p:spPr>
          <a:xfrm>
            <a:off x="90360" y="1928880"/>
            <a:ext cx="8839440" cy="4929120"/>
          </a:xfrm>
          <a:prstGeom prst="horizontalScroll">
            <a:avLst>
              <a:gd name="adj" fmla="val 1738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0" y="3286080"/>
            <a:ext cx="99061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ضع الخطة المناسبة لك أنت .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7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لا تفرط في التخطيط .. خطط في حدود الواق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7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ستخدم ما يناسبك من الجداول المساعد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8"/>
          <p:cNvSpPr/>
          <p:nvPr/>
        </p:nvSpPr>
        <p:spPr>
          <a:xfrm>
            <a:off x="3886200" y="1214280"/>
            <a:ext cx="3048120" cy="1676520"/>
          </a:xfrm>
          <a:custGeom>
            <a:avLst/>
            <a:gdLst>
              <a:gd name="textAreaLeft" fmla="*/ 655920 w 3048120"/>
              <a:gd name="textAreaRight" fmla="*/ 2392200 w 3048120"/>
              <a:gd name="textAreaTop" fmla="*/ 360720 h 1676520"/>
              <a:gd name="textAreaBottom" fmla="*/ 13158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65" y="11860"/>
                </a:lnTo>
                <a:lnTo>
                  <a:pt x="368" y="13595"/>
                </a:lnTo>
                <a:lnTo>
                  <a:pt x="2734" y="14059"/>
                </a:lnTo>
                <a:lnTo>
                  <a:pt x="1447" y="16200"/>
                </a:lnTo>
                <a:lnTo>
                  <a:pt x="3852" y="16036"/>
                </a:lnTo>
                <a:lnTo>
                  <a:pt x="3163" y="18437"/>
                </a:lnTo>
                <a:lnTo>
                  <a:pt x="5444" y="17656"/>
                </a:lnTo>
                <a:lnTo>
                  <a:pt x="5400" y="20153"/>
                </a:lnTo>
                <a:lnTo>
                  <a:pt x="7401" y="18808"/>
                </a:lnTo>
                <a:lnTo>
                  <a:pt x="8005" y="21232"/>
                </a:lnTo>
                <a:lnTo>
                  <a:pt x="9589" y="19415"/>
                </a:lnTo>
                <a:lnTo>
                  <a:pt x="10800" y="21600"/>
                </a:lnTo>
                <a:lnTo>
                  <a:pt x="11860" y="19435"/>
                </a:lnTo>
                <a:lnTo>
                  <a:pt x="13595" y="21232"/>
                </a:lnTo>
                <a:lnTo>
                  <a:pt x="14059" y="18866"/>
                </a:lnTo>
                <a:lnTo>
                  <a:pt x="16200" y="20153"/>
                </a:lnTo>
                <a:lnTo>
                  <a:pt x="16036" y="17748"/>
                </a:lnTo>
                <a:lnTo>
                  <a:pt x="18437" y="18437"/>
                </a:lnTo>
                <a:lnTo>
                  <a:pt x="17656" y="16156"/>
                </a:lnTo>
                <a:lnTo>
                  <a:pt x="20153" y="16200"/>
                </a:lnTo>
                <a:lnTo>
                  <a:pt x="18808" y="14199"/>
                </a:lnTo>
                <a:lnTo>
                  <a:pt x="21232" y="13595"/>
                </a:lnTo>
                <a:lnTo>
                  <a:pt x="19415" y="12011"/>
                </a:lnTo>
                <a:lnTo>
                  <a:pt x="21600" y="10800"/>
                </a:lnTo>
                <a:lnTo>
                  <a:pt x="19435" y="9740"/>
                </a:lnTo>
                <a:lnTo>
                  <a:pt x="21232" y="8005"/>
                </a:lnTo>
                <a:lnTo>
                  <a:pt x="18866" y="7541"/>
                </a:lnTo>
                <a:lnTo>
                  <a:pt x="20153" y="5400"/>
                </a:lnTo>
                <a:lnTo>
                  <a:pt x="17748" y="5564"/>
                </a:lnTo>
                <a:lnTo>
                  <a:pt x="18437" y="3163"/>
                </a:lnTo>
                <a:lnTo>
                  <a:pt x="16156" y="3944"/>
                </a:lnTo>
                <a:lnTo>
                  <a:pt x="16200" y="1447"/>
                </a:lnTo>
                <a:lnTo>
                  <a:pt x="14199" y="2792"/>
                </a:lnTo>
                <a:lnTo>
                  <a:pt x="13595" y="368"/>
                </a:lnTo>
                <a:lnTo>
                  <a:pt x="12011" y="2185"/>
                </a:lnTo>
                <a:lnTo>
                  <a:pt x="10800" y="0"/>
                </a:lnTo>
                <a:lnTo>
                  <a:pt x="9740" y="2165"/>
                </a:lnTo>
                <a:lnTo>
                  <a:pt x="8005" y="368"/>
                </a:lnTo>
                <a:lnTo>
                  <a:pt x="7541" y="2734"/>
                </a:lnTo>
                <a:lnTo>
                  <a:pt x="5400" y="1447"/>
                </a:lnTo>
                <a:lnTo>
                  <a:pt x="5564" y="3852"/>
                </a:lnTo>
                <a:lnTo>
                  <a:pt x="3163" y="3163"/>
                </a:lnTo>
                <a:lnTo>
                  <a:pt x="3944" y="5444"/>
                </a:lnTo>
                <a:lnTo>
                  <a:pt x="1447" y="5400"/>
                </a:lnTo>
                <a:lnTo>
                  <a:pt x="2792" y="7401"/>
                </a:lnTo>
                <a:lnTo>
                  <a:pt x="368" y="8005"/>
                </a:lnTo>
                <a:lnTo>
                  <a:pt x="2185" y="9589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انتب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7" dur="indefinite" restart="never" nodeType="tmRoot">
          <p:childTnLst>
            <p:seq>
              <p:cTn id="2588" dur="indefinite" nodeType="mainSeq">
                <p:childTnLst>
                  <p:par>
                    <p:cTn id="2589" fill="hold">
                      <p:stCondLst>
                        <p:cond delay="0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6"/>
          <p:cNvSpPr/>
          <p:nvPr/>
        </p:nvSpPr>
        <p:spPr>
          <a:xfrm>
            <a:off x="533520" y="2743200"/>
            <a:ext cx="7924680" cy="4038480"/>
          </a:xfrm>
          <a:prstGeom prst="flowChartPunchedTape">
            <a:avLst/>
          </a:prstGeom>
          <a:gradFill rotWithShape="0">
            <a:gsLst>
              <a:gs pos="0">
                <a:srgbClr val="ccccff"/>
              </a:gs>
              <a:gs pos="50000">
                <a:srgbClr val="ffff00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0" y="3581280"/>
            <a:ext cx="914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عد قائمة أعمالك اليومية المناسبة ل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وض قدر ما تستطيع .. ليكن تفويضاً فعال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م بتنظيم وتنظيف مكان عمل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5"/>
          <p:cNvSpPr/>
          <p:nvPr/>
        </p:nvSpPr>
        <p:spPr>
          <a:xfrm>
            <a:off x="4648320" y="1371600"/>
            <a:ext cx="3733560" cy="1295280"/>
          </a:xfrm>
          <a:custGeom>
            <a:avLst/>
            <a:gdLst>
              <a:gd name="textAreaLeft" fmla="*/ 365040 w 3733560"/>
              <a:gd name="textAreaRight" fmla="*/ 3368520 w 3733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6144" y="0"/>
                  <a:pt x="13344" y="0"/>
                  <a:pt x="19488" y="0"/>
                </a:cubicBezTo>
                <a:lnTo>
                  <a:pt x="21600" y="21600"/>
                </a:lnTo>
                <a:cubicBezTo>
                  <a:pt x="15456" y="21600"/>
                  <a:pt x="8256" y="21600"/>
                  <a:pt x="2112" y="216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قم بتنظيم وقتك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5" dur="indefinite" restart="never" nodeType="tmRoot">
          <p:childTnLst>
            <p:seq>
              <p:cTn id="2606" dur="indefinite" nodeType="mainSeq">
                <p:childTnLst>
                  <p:par>
                    <p:cTn id="2607" fill="hold">
                      <p:stCondLst>
                        <p:cond delay="0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3" fill="hold">
                            <p:stCondLst>
                              <p:cond delay="500"/>
                            </p:stCondLst>
                            <p:childTnLst>
                              <p:par>
                                <p:cTn id="26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AutoShape 5"/>
          <p:cNvSpPr/>
          <p:nvPr/>
        </p:nvSpPr>
        <p:spPr>
          <a:xfrm>
            <a:off x="1523880" y="3276720"/>
            <a:ext cx="6934320" cy="350496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-304920" y="373392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راع النصائح العامة عند التنفيذ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لا تسوف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تعامل جيداً مع مضيعات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4800600" y="1447920"/>
            <a:ext cx="3505320" cy="1523880"/>
          </a:xfrm>
          <a:custGeom>
            <a:avLst/>
            <a:gdLst>
              <a:gd name="textAreaLeft" fmla="*/ 257040 w 3505320"/>
              <a:gd name="textAreaRight" fmla="*/ 3248280 w 3505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6408" y="0"/>
                  <a:pt x="13608" y="0"/>
                  <a:pt x="20016" y="0"/>
                </a:cubicBezTo>
                <a:lnTo>
                  <a:pt x="21600" y="21600"/>
                </a:lnTo>
                <a:cubicBezTo>
                  <a:pt x="15192" y="21600"/>
                  <a:pt x="7992" y="21600"/>
                  <a:pt x="1584" y="216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نفذ خطتك بدق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3" dur="indefinite" restart="never" nodeType="tmRoot">
          <p:childTnLst>
            <p:seq>
              <p:cTn id="2624" dur="indefinite" nodeType="mainSeq">
                <p:childTnLst>
                  <p:par>
                    <p:cTn id="2625" fill="hold">
                      <p:stCondLst>
                        <p:cond delay="0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1" fill="hold">
                            <p:stCondLst>
                              <p:cond delay="500"/>
                            </p:stCondLst>
                            <p:childTnLst>
                              <p:par>
                                <p:cTn id="26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AutoShape 2"/>
          <p:cNvSpPr/>
          <p:nvPr/>
        </p:nvSpPr>
        <p:spPr>
          <a:xfrm>
            <a:off x="3048120" y="304920"/>
            <a:ext cx="4190760" cy="990360"/>
          </a:xfrm>
          <a:prstGeom prst="flowChart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0" y="2133720"/>
            <a:ext cx="91440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8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اجعل رقابتك فعال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1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أعد تحليل وقتك .. تأكد أن عاداتك السيئة لم تعد إليك ثاني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4"/>
          <p:cNvSpPr/>
          <p:nvPr/>
        </p:nvSpPr>
        <p:spPr>
          <a:xfrm>
            <a:off x="4800600" y="1447920"/>
            <a:ext cx="3733920" cy="1143000"/>
          </a:xfrm>
          <a:custGeom>
            <a:avLst/>
            <a:gdLst>
              <a:gd name="textAreaLeft" fmla="*/ 0 w 3733920"/>
              <a:gd name="textAreaRight" fmla="*/ 3734280 w 37339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تابع تنفيذ خطتك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990720" y="5105520"/>
            <a:ext cx="7467480" cy="1371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ستخدم استقصاء الوقت النهائي لتقييم أدائ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بعد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أسابيع من بداية خطتك</a:t>
            </a: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0" dur="indefinite" restart="never" nodeType="tmRoot">
          <p:childTnLst>
            <p:seq>
              <p:cTn id="2641" dur="indefinite" nodeType="mainSeq">
                <p:childTnLst>
                  <p:par>
                    <p:cTn id="2642" fill="hold">
                      <p:stCondLst>
                        <p:cond delay="0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500"/>
                            </p:stCondLst>
                            <p:childTnLst>
                              <p:par>
                                <p:cTn id="26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457200" y="12193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حدد أياً من هذه العبارات صحيح و أيها خطأ في ضوء ما تعتقده و تقوم به في حياتك اليومية ....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152280" y="2438280"/>
          <a:ext cx="8839440" cy="41911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لا يوجد حتى الآن إنسان يتوفر له الوقت الكا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إن معظم الناس يعانون من كثرة الأعمال بسبب طبيعة وظائفهم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المديرون أصحاب المناصب الإدارية العليا يتخذون عادة أفضل القرار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ن عملك فريد من نوعه وليس له نمط  معين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من الممكن أن يتيح لك التأخير الفرصة لتحسين نوعية القرار الذي ستتخذه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52280" y="1525680"/>
          <a:ext cx="8839440" cy="47242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إن إدارة الوقت بصورة أفضل تنحصر في تقليل الوقت المستغرق في الأنشطة المتعددة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يستطيع أغلب الأشخاص حل المشكلات المتعلقة بالوقت عن طريق بذل جهد أكبر في العمل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ن تفويضك للسلطة يمكن أن يحرر الكثير من وقتك ويريحك من بعض المسئولي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أغلب الأنشطة اليومية لا تحتاج إلى تخطيط و لا ينجح الكثيرون في التخطيط لها مطلقاً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الأشخاص المشغولون النشطون الذين يقومون بالعمل الصعب يحققون أفضل النتائج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52280" y="1525680"/>
          <a:ext cx="8839440" cy="47242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مشكلة إدارة الوقت هي أنها لا تسمح بالسلوك التلقائي وهي عملية آلية أكثر منها نشطة ومتحركة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ليس من الضروري في أغلب الأحيان أن تكتب أهدافك ، يكفي أنك تعرفها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ذا أردت أن تؤدي عملك بطريقة سليمة فمن الأفضل أن تؤديه بنفسك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ليس من الممكن ــ في الغالب ــ العمل على أساس تحديد الأولوي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أغلب النتائج التي تحققها تكون عادة نتيجة لعدد قليل من الأنشطة الهامة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5791320" y="0"/>
            <a:ext cx="2971800" cy="175248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2133720"/>
            <a:ext cx="8610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أن الإدارة الصحيحة لوقتك تضيف إلى حياتك ساعات أطول إذا أحسنت استغلال الأوقات الضائعة في حياتك ؟ 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3535200"/>
            <a:ext cx="86104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دقيقة كل يوم تعني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م عمل كل عا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28600" y="4449600"/>
            <a:ext cx="861048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دقيقة كل يوم تعني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م عمل كل ع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28600" y="5576760"/>
            <a:ext cx="8686800" cy="155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إن هذا يُعادل شهراَ جديداَ من العمل كل عام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3886200" y="228600"/>
            <a:ext cx="1981080" cy="68580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النتيج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9"/>
          <p:cNvSpPr/>
          <p:nvPr/>
        </p:nvSpPr>
        <p:spPr>
          <a:xfrm flipH="1">
            <a:off x="5638320" y="14479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0"/>
          <p:cNvSpPr/>
          <p:nvPr/>
        </p:nvSpPr>
        <p:spPr>
          <a:xfrm flipH="1">
            <a:off x="5638320" y="25909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41"/>
          <p:cNvSpPr/>
          <p:nvPr/>
        </p:nvSpPr>
        <p:spPr>
          <a:xfrm flipH="1">
            <a:off x="5638320" y="358128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2"/>
          <p:cNvSpPr/>
          <p:nvPr/>
        </p:nvSpPr>
        <p:spPr>
          <a:xfrm flipH="1">
            <a:off x="5638320" y="46483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3"/>
          <p:cNvSpPr/>
          <p:nvPr/>
        </p:nvSpPr>
        <p:spPr>
          <a:xfrm>
            <a:off x="838080" y="1127160"/>
            <a:ext cx="472464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متاز</a:t>
            </a:r>
            <a:r>
              <a:rPr b="1" lang="ar-SA" sz="3200" spc="-1" strike="noStrike">
                <a:solidFill>
                  <a:srgbClr val="993300"/>
                </a:solidFill>
                <a:latin typeface="Times New Roman"/>
              </a:rPr>
              <a:t> { تستفيد من وقتك جيداً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4"/>
          <p:cNvSpPr/>
          <p:nvPr/>
        </p:nvSpPr>
        <p:spPr>
          <a:xfrm>
            <a:off x="380880" y="3048120"/>
            <a:ext cx="518184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بو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{ راجع وجهات نظرك عن الوقت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5"/>
          <p:cNvSpPr/>
          <p:nvPr/>
        </p:nvSpPr>
        <p:spPr>
          <a:xfrm>
            <a:off x="685800" y="2193840"/>
            <a:ext cx="487692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جيد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{ أنت في الطريق الصحيح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6"/>
          <p:cNvSpPr/>
          <p:nvPr/>
        </p:nvSpPr>
        <p:spPr>
          <a:xfrm>
            <a:off x="304920" y="4189320"/>
            <a:ext cx="5257800" cy="1617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ضعيف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{عدد كبير من افتراضاتك عن الوقت يحتاج مراجعة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49"/>
          <p:cNvSpPr/>
          <p:nvPr/>
        </p:nvSpPr>
        <p:spPr>
          <a:xfrm>
            <a:off x="7467480" y="1066680"/>
            <a:ext cx="15242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4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50"/>
          <p:cNvSpPr/>
          <p:nvPr/>
        </p:nvSpPr>
        <p:spPr>
          <a:xfrm>
            <a:off x="5791320" y="762120"/>
            <a:ext cx="14475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جا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صحي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4"/>
          <p:cNvSpPr/>
          <p:nvPr/>
        </p:nvSpPr>
        <p:spPr>
          <a:xfrm>
            <a:off x="7467480" y="2133720"/>
            <a:ext cx="15242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5"/>
          <p:cNvSpPr/>
          <p:nvPr/>
        </p:nvSpPr>
        <p:spPr>
          <a:xfrm>
            <a:off x="7467480" y="3200400"/>
            <a:ext cx="1524240" cy="838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56"/>
          <p:cNvSpPr/>
          <p:nvPr/>
        </p:nvSpPr>
        <p:spPr>
          <a:xfrm>
            <a:off x="7467480" y="4267080"/>
            <a:ext cx="1524240" cy="838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قل من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8"/>
          <p:cNvSpPr/>
          <p:nvPr/>
        </p:nvSpPr>
        <p:spPr>
          <a:xfrm>
            <a:off x="228600" y="5683320"/>
            <a:ext cx="868680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الأرقام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صحيحة و بقية الأرقام خاطئ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9" dur="indefinite" restart="never" nodeType="tmRoot">
          <p:childTnLst>
            <p:seq>
              <p:cTn id="2660" dur="indefinite" nodeType="mainSeq">
                <p:childTnLst>
                  <p:par>
                    <p:cTn id="2661" fill="hold">
                      <p:stCondLst>
                        <p:cond delay="0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5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1181160" y="495288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WordArt 3"/>
          <p:cNvSpPr txBox="1"/>
          <p:nvPr/>
        </p:nvSpPr>
        <p:spPr>
          <a:xfrm>
            <a:off x="1790640" y="68580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latin typeface="Times New Roman"/>
              </a:rPr>
              <a:t>أنت الآن تسير في الطريق الصحيح .. 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4"/>
          <p:cNvSpPr txBox="1"/>
          <p:nvPr/>
        </p:nvSpPr>
        <p:spPr>
          <a:xfrm>
            <a:off x="304920" y="22860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70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latin typeface="Times New Roman"/>
              </a:rPr>
              <a:t>عليك بالصبر والتوكل على الله 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2752" dur="indefinite" restart="never" nodeType="tmRoot">
          <p:childTnLst>
            <p:seq>
              <p:cTn id="2753" dur="indefinite" nodeType="mainSeq">
                <p:childTnLst>
                  <p:par>
                    <p:cTn id="2754" fill="hold">
                      <p:stCondLst>
                        <p:cond delay="0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500"/>
                            </p:stCondLst>
                            <p:childTnLst>
                              <p:par>
                                <p:cTn id="27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WordArt 2"/>
          <p:cNvSpPr txBox="1"/>
          <p:nvPr/>
        </p:nvSpPr>
        <p:spPr>
          <a:xfrm>
            <a:off x="762120" y="990720"/>
            <a:ext cx="7772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شكراً لحسن استماعكم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8:51:27Z</dcterms:created>
  <dc:creator>Nawal Computers</dc:creator>
  <dc:description/>
  <dc:language>en-US</dc:language>
  <cp:lastModifiedBy>egyptian hak</cp:lastModifiedBy>
  <dcterms:modified xsi:type="dcterms:W3CDTF">2008-03-14T11:44:25Z</dcterms:modified>
  <cp:revision>423</cp:revision>
  <dc:subject/>
  <dc:title>عرض تقديمي من PowerPoint</dc:title>
</cp:coreProperties>
</file>